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3.png" ContentType="image/png"/>
  <Override PartName="/ppt/media/image30.gif" ContentType="image/gif"/>
  <Override PartName="/ppt/media/image14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6.jpeg" ContentType="image/jpeg"/>
  <Override PartName="/ppt/media/image27.jpeg" ContentType="image/jpeg"/>
  <Override PartName="/ppt/media/image29.gif" ContentType="image/gi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64DC-524D-4971-95BA-6FD5EFB8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6A9-7595-4262-B71D-E85A7BD6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B87-5CC1-4F16-AB1D-B053B860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3338-DC4D-427F-924B-B71F97183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A538-242C-444A-9DD5-AD4DACD4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4B8E-5D50-4B9C-B258-1416B7B9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C522-E61F-4658-B342-2DB248FB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1CC-A937-4804-8E4F-E6B37CFA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7654-D378-4A2E-B9D7-520FB514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3D2D-B513-4649-9281-B1444559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939E-8222-4A01-840A-E98BF372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F4B-C5AB-45CC-857C-A54672BE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48A3-82A4-4B78-B8D8-F102DC59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5964-635A-45F9-87B3-1BB97082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052D-D631-44D1-880C-67EB8456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F79E-2045-4D28-B1B0-4A58E03B2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3F3D-FB0A-40C2-813B-1BCFFE23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D03-6F43-4A92-A9D5-B6287636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2F4-C839-44B0-9C70-FBF302A0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9D7-F9D8-446F-B0CE-55DB9CAA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778-5052-4AE1-8EB0-76F251D4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B22C-22BC-45F9-B59A-4298B19B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E5E-D0AE-4DDB-A47C-A57AD310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1BCE-2043-4734-8032-3CA47273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F8D5-84CE-4BC1-82DD-CA0F9AD2126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51BC-8794-4586-811D-39EBA1601C2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29.gif"/><Relationship Id="rId7" Type="http://schemas.openxmlformats.org/officeDocument/2006/relationships/image" Target="../media/image29.gif"/><Relationship Id="rId8" Type="http://schemas.openxmlformats.org/officeDocument/2006/relationships/image" Target="../media/image29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2"/>
          <p:cNvSpPr/>
          <p:nvPr/>
        </p:nvSpPr>
        <p:spPr>
          <a:xfrm>
            <a:off x="1258920" y="1341360"/>
            <a:ext cx="7885080" cy="324000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15"/>
          <p:cNvSpPr/>
          <p:nvPr/>
        </p:nvSpPr>
        <p:spPr>
          <a:xfrm>
            <a:off x="1251000" y="304920"/>
            <a:ext cx="7883640" cy="46008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Заголовок 5" descr=""/>
          <p:cNvPicPr/>
          <p:nvPr/>
        </p:nvPicPr>
        <p:blipFill>
          <a:blip r:embed="rId2"/>
          <a:stretch/>
        </p:blipFill>
        <p:spPr>
          <a:xfrm>
            <a:off x="2614680" y="225360"/>
            <a:ext cx="6492960" cy="4438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ожно ли пешеходам ходить по проезжей части улицы, дороги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9" name="Picture 2" descr="C:\Users\Василий\Desktop\iCAQPHOB1.jpg"/>
          <p:cNvPicPr/>
          <p:nvPr/>
        </p:nvPicPr>
        <p:blipFill>
          <a:blip r:embed="rId1"/>
          <a:stretch/>
        </p:blipFill>
        <p:spPr>
          <a:xfrm>
            <a:off x="457200" y="3276720"/>
            <a:ext cx="2438280" cy="2057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Василий\Desktop\iCAFLUV5A.jpg"/>
          <p:cNvPicPr/>
          <p:nvPr/>
        </p:nvPicPr>
        <p:blipFill>
          <a:blip r:embed="rId2"/>
          <a:stretch/>
        </p:blipFill>
        <p:spPr>
          <a:xfrm>
            <a:off x="3124080" y="23623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C:\Users\Василий\Desktop\iCAQPHOB1.jpg"/>
          <p:cNvPicPr/>
          <p:nvPr/>
        </p:nvPicPr>
        <p:blipFill>
          <a:blip r:embed="rId3"/>
          <a:stretch/>
        </p:blipFill>
        <p:spPr>
          <a:xfrm>
            <a:off x="6248520" y="3429000"/>
            <a:ext cx="2514600" cy="21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жите знак "велосипедная дорожка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3" name="Picture 2" descr="C:\Users\Василий\Desktop\iCA68OW4R.jpg"/>
          <p:cNvPicPr/>
          <p:nvPr/>
        </p:nvPicPr>
        <p:blipFill>
          <a:blip r:embed="rId1"/>
          <a:stretch/>
        </p:blipFill>
        <p:spPr>
          <a:xfrm>
            <a:off x="327672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Василий\Desktop\i.jpg"/>
          <p:cNvPicPr/>
          <p:nvPr/>
        </p:nvPicPr>
        <p:blipFill>
          <a:blip r:embed="rId2"/>
          <a:stretch/>
        </p:blipFill>
        <p:spPr>
          <a:xfrm>
            <a:off x="6477120" y="2362320"/>
            <a:ext cx="2209680" cy="21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Василий\Desktop\iCA3D4CPJ.jpg"/>
          <p:cNvPicPr/>
          <p:nvPr/>
        </p:nvPicPr>
        <p:blipFill>
          <a:blip r:embed="rId3"/>
          <a:stretch/>
        </p:blipFill>
        <p:spPr>
          <a:xfrm>
            <a:off x="533520" y="243828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6"/>
          <p:cNvSpPr/>
          <p:nvPr/>
        </p:nvSpPr>
        <p:spPr>
          <a:xfrm>
            <a:off x="228600" y="44956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                                     2     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ожно ли ездить на велосипеде, не держась за руль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TextBox 4"/>
          <p:cNvSpPr/>
          <p:nvPr/>
        </p:nvSpPr>
        <p:spPr>
          <a:xfrm rot="21113400">
            <a:off x="1034280" y="1677600"/>
            <a:ext cx="54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Запрещается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Прямоугольник 5" descr=""/>
          <p:cNvPicPr/>
          <p:nvPr/>
        </p:nvPicPr>
        <p:blipFill>
          <a:blip r:embed="rId1"/>
          <a:stretch/>
        </p:blipFill>
        <p:spPr>
          <a:xfrm>
            <a:off x="-55440" y="1620720"/>
            <a:ext cx="9199440" cy="3652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Users\Василий\Desktop\iCA4Q5U0J.jpg"/>
          <p:cNvPicPr/>
          <p:nvPr/>
        </p:nvPicPr>
        <p:blipFill>
          <a:blip r:embed="rId2"/>
          <a:stretch/>
        </p:blipFill>
        <p:spPr>
          <a:xfrm rot="21057600">
            <a:off x="3657600" y="4038120"/>
            <a:ext cx="3687840" cy="2475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каких местах устанавливается знак "Осторожно, дети!”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2" name="Picture 4" descr="C:\Users\Василий\Desktop\iCAG4IM4O.jpg"/>
          <p:cNvPicPr/>
          <p:nvPr/>
        </p:nvPicPr>
        <p:blipFill>
          <a:blip r:embed="rId1"/>
          <a:stretch/>
        </p:blipFill>
        <p:spPr>
          <a:xfrm>
            <a:off x="6248520" y="3352680"/>
            <a:ext cx="2361960" cy="2067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C:\Users\Василий\Desktop\iCAYJLNO0.jpg"/>
          <p:cNvPicPr/>
          <p:nvPr/>
        </p:nvPicPr>
        <p:blipFill>
          <a:blip r:embed="rId2"/>
          <a:stretch/>
        </p:blipFill>
        <p:spPr>
          <a:xfrm>
            <a:off x="838080" y="3124080"/>
            <a:ext cx="2895840" cy="2343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60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Место посадки и высадки пассажиров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Picture 2" descr="C:\Users\Василий\Desktop\iCAQ7A58M.jpg"/>
          <p:cNvPicPr/>
          <p:nvPr/>
        </p:nvPicPr>
        <p:blipFill>
          <a:blip r:embed="rId1"/>
          <a:stretch/>
        </p:blipFill>
        <p:spPr>
          <a:xfrm>
            <a:off x="5943600" y="3124080"/>
            <a:ext cx="2457360" cy="2248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Василий\Desktop\iCAI4YHU5.jpg"/>
          <p:cNvPicPr/>
          <p:nvPr/>
        </p:nvPicPr>
        <p:blipFill>
          <a:blip r:embed="rId2"/>
          <a:stretch/>
        </p:blipFill>
        <p:spPr>
          <a:xfrm>
            <a:off x="609480" y="3200400"/>
            <a:ext cx="2438640" cy="2133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 какого возраста можно ездить на велосипеде по улице (дороге)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228600" y="2285640"/>
            <a:ext cx="8534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333333"/>
                </a:solidFill>
                <a:latin typeface="Verdana"/>
                <a:ea typeface="Times New Roman"/>
              </a:rPr>
              <a:t>УПРАВЛЯТЬ ВЕЛОСИПЕДОМ, ГУЖЕВОЙ ПОВОЗКОЙ (САНЯМИ), БЫТЬ ПОГОНЩИКОМ ВЬЮЧНЫХ, ВЕРХОВЫХ ЖИВОТНЫХ ИЛИ СТАДА ПРИ ДВИЖЕНИИ ПО ДОРОГАМ РАЗРЕШАЕТСЯ ЛИЦАМ НЕ МОЛО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14 ЛЕТ, А МОПЕДОМ - НЕ МОЛОЖЕ 16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33"/>
                </a:solidFill>
                <a:latin typeface="Verdana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333333"/>
                </a:solidFill>
                <a:latin typeface="Verdana"/>
                <a:ea typeface="Times New Roman"/>
              </a:rPr>
              <a:t>РАЗРЕШАЕТСЯ УПРАВЛЯТЬ ВЕЛОСИПЕДОМ ЛИЦАМ НЕ МОЛОЖЕ 14 ЛЕТ ПРИ ДВИЖЕНИИ ПО ДОРОГАМ. ЧТО КАСАЕТСЯ ДВИЖЕНИЯ ПО БЕЗДОРОЖЬЮ, ТО В НЕМ МОГУТ УЧАСТВОВАТЬ ЛИЦА ЛЮБОГО ВОЗРАСТА. НАПОМНЮ, ЧТО ТРОТУАРЫ И ОБОЧИНЫ ОТНОСЯТСЯ К ДОРОГАМ, ПОЭТОМУ ЛИЦАМ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14 ЛЕТ ПО НИМ ПЕРЕДВИГАТЬСЯ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Прямоугольник 4" descr=""/>
          <p:cNvPicPr/>
          <p:nvPr/>
        </p:nvPicPr>
        <p:blipFill>
          <a:blip r:embed="rId1"/>
          <a:stretch/>
        </p:blipFill>
        <p:spPr>
          <a:xfrm>
            <a:off x="-212760" y="2468520"/>
            <a:ext cx="9496440" cy="1646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D:\Мои рисунки\Коллекции анимашек. httpanimashky.ruindex0-6\кот дельфин фея\65.gif"/>
          <p:cNvPicPr/>
          <p:nvPr/>
        </p:nvPicPr>
        <p:blipFill>
          <a:blip r:embed="rId2"/>
          <a:stretch/>
        </p:blipFill>
        <p:spPr>
          <a:xfrm>
            <a:off x="1676520" y="5334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D:\Мои рисунки\Коллекции анимашек. httpanimashky.ruindex0-6\кот дельфин фея\65.gif"/>
          <p:cNvPicPr/>
          <p:nvPr/>
        </p:nvPicPr>
        <p:blipFill>
          <a:blip r:embed="rId3"/>
          <a:stretch/>
        </p:blipFill>
        <p:spPr>
          <a:xfrm>
            <a:off x="4648320" y="16765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D:\Мои рисунки\Коллекции анимашек. httpanimashky.ruindex0-6\кот дельфин фея\65.gif"/>
          <p:cNvPicPr/>
          <p:nvPr/>
        </p:nvPicPr>
        <p:blipFill>
          <a:blip r:embed="rId4"/>
          <a:stretch/>
        </p:blipFill>
        <p:spPr>
          <a:xfrm>
            <a:off x="6934320" y="10666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:\Мои рисунки\Коллекции анимашек. httpanimashky.ruindex0-6\кот дельфин фея\65.gif"/>
          <p:cNvPicPr/>
          <p:nvPr/>
        </p:nvPicPr>
        <p:blipFill>
          <a:blip r:embed="rId5"/>
          <a:stretch/>
        </p:blipFill>
        <p:spPr>
          <a:xfrm>
            <a:off x="1295280" y="68580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D:\Мои рисунки\Коллекции анимашек. httpanimashky.ruindex0-6\кот дельфин фея\65.gif"/>
          <p:cNvPicPr/>
          <p:nvPr/>
        </p:nvPicPr>
        <p:blipFill>
          <a:blip r:embed="rId6"/>
          <a:stretch/>
        </p:blipFill>
        <p:spPr>
          <a:xfrm>
            <a:off x="4019400" y="567684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D:\Мои рисунки\Коллекции анимашек. httpanimashky.ruindex0-6\кот дельфин фея\65.gif"/>
          <p:cNvPicPr/>
          <p:nvPr/>
        </p:nvPicPr>
        <p:blipFill>
          <a:blip r:embed="rId7"/>
          <a:stretch/>
        </p:blipFill>
        <p:spPr>
          <a:xfrm>
            <a:off x="7543800" y="53341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D:\Мои рисунки\Коллекции анимашек. httpanimashky.ruindex0-6\кот дельфин фея\65.gif"/>
          <p:cNvPicPr/>
          <p:nvPr/>
        </p:nvPicPr>
        <p:blipFill>
          <a:blip r:embed="rId8"/>
          <a:stretch/>
        </p:blipFill>
        <p:spPr>
          <a:xfrm>
            <a:off x="5257800" y="441972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D:\Мои рисунки\Коллекции анимашек. httpanimashky.ruindex0-6\кот дельфин фея\65.gif"/>
          <p:cNvPicPr/>
          <p:nvPr/>
        </p:nvPicPr>
        <p:blipFill>
          <a:blip r:embed="rId9"/>
          <a:stretch/>
        </p:blipFill>
        <p:spPr>
          <a:xfrm>
            <a:off x="3352680" y="380880"/>
            <a:ext cx="561960" cy="561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D:\Мои рисунки\Коллекции анимашек. httpanimashky.ruindex0-6\лиса\9 (2).gif"/>
          <p:cNvPicPr/>
          <p:nvPr/>
        </p:nvPicPr>
        <p:blipFill>
          <a:blip r:embed="rId10"/>
          <a:stretch/>
        </p:blipFill>
        <p:spPr>
          <a:xfrm rot="18886200">
            <a:off x="2197800" y="402120"/>
            <a:ext cx="1095480" cy="2693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D:\Мои рисунки\Коллекции анимашек. httpanimashky.ruindex0-6\лиса\9 (2).gif"/>
          <p:cNvPicPr/>
          <p:nvPr/>
        </p:nvPicPr>
        <p:blipFill>
          <a:blip r:embed="rId11"/>
          <a:stretch/>
        </p:blipFill>
        <p:spPr>
          <a:xfrm rot="18781800">
            <a:off x="4284720" y="1638000"/>
            <a:ext cx="1095480" cy="323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D:\Мои рисунки\Коллекции анимашек. httpanimashky.ruindex0-6\лиса\9 (2).gif"/>
          <p:cNvPicPr/>
          <p:nvPr/>
        </p:nvPicPr>
        <p:blipFill>
          <a:blip r:embed="rId12"/>
          <a:stretch/>
        </p:blipFill>
        <p:spPr>
          <a:xfrm rot="18600000">
            <a:off x="6423480" y="3665880"/>
            <a:ext cx="1095480" cy="31575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5"/>
          <p:cNvSpPr/>
          <p:nvPr/>
        </p:nvSpPr>
        <p:spPr>
          <a:xfrm>
            <a:off x="1258920" y="1341360"/>
            <a:ext cx="7885080" cy="475164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1251000" y="304920"/>
            <a:ext cx="7883640" cy="42372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57280" y="571320"/>
            <a:ext cx="6615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 u="sng">
                <a:solidFill>
                  <a:srgbClr val="000000"/>
                </a:solidFill>
                <a:uFillTx/>
                <a:latin typeface="Calibri"/>
              </a:rPr>
              <a:t>Чем занимается отряд ЮИД?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2465280" y="1219320"/>
            <a:ext cx="667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яд ЮИД организует творческую работу по пропаганде безопасности дорожного движения среди школьников и вместе с   ни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5"/>
          <p:cNvSpPr/>
          <p:nvPr/>
        </p:nvSpPr>
        <p:spPr>
          <a:xfrm>
            <a:off x="1258920" y="1341360"/>
            <a:ext cx="7885080" cy="475164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1251000" y="304920"/>
            <a:ext cx="7883640" cy="423720"/>
          </a:xfrm>
          <a:prstGeom prst="rect">
            <a:avLst/>
          </a:prstGeom>
          <a:gradFill rotWithShape="0">
            <a:gsLst>
              <a:gs pos="0">
                <a:srgbClr val="21b2c9"/>
              </a:gs>
              <a:gs pos="50000">
                <a:srgbClr val="bacbf2">
                  <a:alpha val="0"/>
                </a:srgbClr>
              </a:gs>
              <a:gs pos="100000">
                <a:srgbClr val="21b2c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7920" y="2209320"/>
            <a:ext cx="631692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71680" indent="-571680">
              <a:buClr>
                <a:srgbClr val="0461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ятельность отрядов ЮИД можно определить тремя девизами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Изучи ПДД сам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2.Научи ПДД своих сверстников!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.Напомни взрослым о культуре дорожного движения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7864560" cy="12618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7854840" cy="6858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МБОУ СОШ №17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152280" y="2971800"/>
            <a:ext cx="5639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</a:t>
            </a:r>
            <a:br>
              <a:rPr sz="4000"/>
            </a:b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равилам дорожного движения 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D:\Мои рисунки\i (2).jpg"/>
          <p:cNvPicPr/>
          <p:nvPr/>
        </p:nvPicPr>
        <p:blipFill>
          <a:blip r:embed="rId2"/>
          <a:stretch/>
        </p:blipFill>
        <p:spPr>
          <a:xfrm rot="481200">
            <a:off x="5794200" y="3090600"/>
            <a:ext cx="297180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Подзаголовок 2"/>
          <p:cNvSpPr/>
          <p:nvPr/>
        </p:nvSpPr>
        <p:spPr>
          <a:xfrm>
            <a:off x="533520" y="5105520"/>
            <a:ext cx="7854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600200" y="690840"/>
            <a:ext cx="5375880" cy="988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80"/>
            </a:solidFill>
            <a:round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Calibri"/>
              </a:rPr>
              <a:t>Дорогой друг! </a:t>
            </a:r>
            <a:br>
              <a:rPr sz="2500"/>
            </a:b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Предлагаю тебе проверить свои зна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о правилам дорожного движени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Calibri"/>
              </a:rPr>
              <a:t>и принять участие в викторине.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AutoShape 19"/>
          <p:cNvSpPr/>
          <p:nvPr/>
        </p:nvSpPr>
        <p:spPr>
          <a:xfrm rot="5400000">
            <a:off x="4228920" y="2171520"/>
            <a:ext cx="4343400" cy="4724640"/>
          </a:xfrm>
          <a:prstGeom prst="horizontalScroll">
            <a:avLst>
              <a:gd name="adj" fmla="val 8935"/>
            </a:avLst>
          </a:prstGeom>
          <a:solidFill>
            <a:srgbClr val="ffff99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cc"/>
                </a:solidFill>
                <a:latin typeface="Times New Roman"/>
              </a:rPr>
              <a:t>Ты долж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Внимательно прочитать вопрос</a:t>
            </a: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6600"/>
                </a:solidFill>
                <a:latin typeface="Times New Roman"/>
              </a:rPr>
              <a:t>Выбрать 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D:\Мои рисунки\Коллекции анимашек. httpanimashky.ruindex0-6\кот дельфин фея\605.jpg"/>
          <p:cNvPicPr/>
          <p:nvPr/>
        </p:nvPicPr>
        <p:blipFill>
          <a:blip r:embed="rId1"/>
          <a:stretch/>
        </p:blipFill>
        <p:spPr>
          <a:xfrm rot="21117000">
            <a:off x="380520" y="3809880"/>
            <a:ext cx="3276720" cy="26672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Какие сигналы пешеходного светофора вы знаете, что они обозначают?</a:t>
            </a:r>
            <a:br>
              <a:rPr sz="4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Овал 5"/>
          <p:cNvSpPr/>
          <p:nvPr/>
        </p:nvSpPr>
        <p:spPr>
          <a:xfrm>
            <a:off x="685800" y="2438280"/>
            <a:ext cx="3048120" cy="27432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"/>
          <p:cNvSpPr/>
          <p:nvPr/>
        </p:nvSpPr>
        <p:spPr>
          <a:xfrm>
            <a:off x="5029200" y="2438280"/>
            <a:ext cx="2971800" cy="281952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762120" y="5410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топ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5410080" y="5410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Можно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идти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Какой из этих знаков на проезжей части улиц и дорог обозначает пешеходный переход?</a:t>
            </a:r>
            <a:br>
              <a:rPr sz="45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2" name="Picture 2" descr="C:\Users\Василий\Desktop\iCADV0R0D.jpg"/>
          <p:cNvPicPr/>
          <p:nvPr/>
        </p:nvPicPr>
        <p:blipFill>
          <a:blip r:embed="rId1"/>
          <a:stretch/>
        </p:blipFill>
        <p:spPr>
          <a:xfrm>
            <a:off x="304920" y="3048120"/>
            <a:ext cx="2361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Users\Василий\Desktop\iCAG4IM4O.jpg"/>
          <p:cNvPicPr/>
          <p:nvPr/>
        </p:nvPicPr>
        <p:blipFill>
          <a:blip r:embed="rId2"/>
          <a:stretch/>
        </p:blipFill>
        <p:spPr>
          <a:xfrm>
            <a:off x="3352680" y="3048120"/>
            <a:ext cx="2605320" cy="2147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Users\Василий\Desktop\iCA3ZE2R0.jpg"/>
          <p:cNvPicPr/>
          <p:nvPr/>
        </p:nvPicPr>
        <p:blipFill>
          <a:blip r:embed="rId3"/>
          <a:stretch/>
        </p:blipFill>
        <p:spPr>
          <a:xfrm>
            <a:off x="6019920" y="2895480"/>
            <a:ext cx="2514600" cy="23432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380880" y="53341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                                         2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Где и как должны переходить улицу пешеходы?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27" name="Picture 2" descr="C:\Users\Василий\Desktop\i.jpg"/>
          <p:cNvPicPr/>
          <p:nvPr/>
        </p:nvPicPr>
        <p:blipFill>
          <a:blip r:embed="rId1"/>
          <a:stretch/>
        </p:blipFill>
        <p:spPr>
          <a:xfrm>
            <a:off x="304920" y="175248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Василий\Desktop\iCAKXYPY3.jpg"/>
          <p:cNvPicPr/>
          <p:nvPr/>
        </p:nvPicPr>
        <p:blipFill>
          <a:blip r:embed="rId2"/>
          <a:stretch/>
        </p:blipFill>
        <p:spPr>
          <a:xfrm>
            <a:off x="3200400" y="1752480"/>
            <a:ext cx="281952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Users\Василий\Desktop\i.jpg"/>
          <p:cNvPicPr/>
          <p:nvPr/>
        </p:nvPicPr>
        <p:blipFill>
          <a:blip r:embed="rId3"/>
          <a:stretch/>
        </p:blipFill>
        <p:spPr>
          <a:xfrm>
            <a:off x="6019920" y="175248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380880" y="4114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з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3657600" y="4114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дз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6248520" y="4038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дзем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кажите знак, который запрещает движение пешеходов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4" name="Picture 1" descr="C:\Users\Василий\Desktop\i.jpg"/>
          <p:cNvPicPr/>
          <p:nvPr/>
        </p:nvPicPr>
        <p:blipFill>
          <a:blip r:embed="rId1"/>
          <a:stretch/>
        </p:blipFill>
        <p:spPr>
          <a:xfrm>
            <a:off x="3276720" y="274320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Василий\Desktop\iCAG4IM4O.jpg"/>
          <p:cNvPicPr/>
          <p:nvPr/>
        </p:nvPicPr>
        <p:blipFill>
          <a:blip r:embed="rId2"/>
          <a:stretch/>
        </p:blipFill>
        <p:spPr>
          <a:xfrm>
            <a:off x="533520" y="2895480"/>
            <a:ext cx="2438280" cy="21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C:\Users\Василий\Desktop\iCA5IWBX2.jpg"/>
          <p:cNvPicPr/>
          <p:nvPr/>
        </p:nvPicPr>
        <p:blipFill>
          <a:blip r:embed="rId3"/>
          <a:stretch/>
        </p:blipFill>
        <p:spPr>
          <a:xfrm>
            <a:off x="6095880" y="2743200"/>
            <a:ext cx="2514600" cy="2286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457200" y="5029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                                     2                                     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4T01:47:26Z</dcterms:created>
  <dc:creator>Василий</dc:creator>
  <dc:description/>
  <dc:language>en-US</dc:language>
  <cp:lastModifiedBy>Оксана</cp:lastModifiedBy>
  <dcterms:modified xsi:type="dcterms:W3CDTF">2020-03-03T16:59:05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