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F549-851B-4B39-A1EF-884862FA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CF3-A6BA-4A49-AB42-EA53F263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4E1E-A0FA-4A6E-8C22-6B5C94C3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B0ED-E0E3-4C66-BE7C-8FEF76DF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1E70-478E-47A2-9BE3-99F1FC60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89AA-4B49-4275-A496-38BDC66C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5639-7197-4D71-9A23-998C1E34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363-3085-410E-8711-5F041854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01E7-A024-41D8-918A-7930E214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5CB9-D1EE-45FC-8B39-B40097EF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91C8-8BDF-4657-A179-B4533A24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A51-36E3-40F3-8F9C-582D43A0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360A-8305-4FCA-A41D-EA2B361D7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11.xml"/><Relationship Id="rId6" Type="http://schemas.openxmlformats.org/officeDocument/2006/relationships/image" Target="../media/image4.png"/><Relationship Id="rId7" Type="http://schemas.openxmlformats.org/officeDocument/2006/relationships/slide" Target="slide15.xml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image" Target="../media/image7.png"/><Relationship Id="rId5" Type="http://schemas.openxmlformats.org/officeDocument/2006/relationships/slide" Target="slide5.xml"/><Relationship Id="rId6" Type="http://schemas.openxmlformats.org/officeDocument/2006/relationships/image" Target="../media/image8.png"/><Relationship Id="rId7" Type="http://schemas.openxmlformats.org/officeDocument/2006/relationships/slide" Target="slide6.xml"/><Relationship Id="rId8" Type="http://schemas.openxmlformats.org/officeDocument/2006/relationships/image" Target="../media/image9.png"/><Relationship Id="rId9" Type="http://schemas.openxmlformats.org/officeDocument/2006/relationships/slide" Target="slide7.xml"/><Relationship Id="rId10" Type="http://schemas.openxmlformats.org/officeDocument/2006/relationships/image" Target="../media/image10.png"/><Relationship Id="rId11" Type="http://schemas.openxmlformats.org/officeDocument/2006/relationships/slide" Target="slide8.xml"/><Relationship Id="rId12" Type="http://schemas.openxmlformats.org/officeDocument/2006/relationships/image" Target="../media/image11.png"/><Relationship Id="rId13" Type="http://schemas.openxmlformats.org/officeDocument/2006/relationships/slide" Target="slide9.xml"/><Relationship Id="rId14" Type="http://schemas.openxmlformats.org/officeDocument/2006/relationships/image" Target="../media/image12.png"/><Relationship Id="rId15" Type="http://schemas.openxmlformats.org/officeDocument/2006/relationships/slide" Target="slide10.xml"/><Relationship Id="rId16" Type="http://schemas.openxmlformats.org/officeDocument/2006/relationships/image" Target="../media/image13.png"/><Relationship Id="rId17" Type="http://schemas.openxmlformats.org/officeDocument/2006/relationships/slide" Target="slide11.xml"/><Relationship Id="rId18" Type="http://schemas.openxmlformats.org/officeDocument/2006/relationships/image" Target="../media/image14.png"/><Relationship Id="rId19" Type="http://schemas.openxmlformats.org/officeDocument/2006/relationships/slide" Target="slide12.xml"/><Relationship Id="rId20" Type="http://schemas.openxmlformats.org/officeDocument/2006/relationships/image" Target="../media/image15.png"/><Relationship Id="rId21" Type="http://schemas.openxmlformats.org/officeDocument/2006/relationships/slide" Target="slide13.xml"/><Relationship Id="rId22" Type="http://schemas.openxmlformats.org/officeDocument/2006/relationships/image" Target="../media/image16.png"/><Relationship Id="rId23" Type="http://schemas.openxmlformats.org/officeDocument/2006/relationships/slide" Target="slide14.xml"/><Relationship Id="rId24" Type="http://schemas.openxmlformats.org/officeDocument/2006/relationships/image" Target="../media/image17.png"/><Relationship Id="rId25" Type="http://schemas.openxmlformats.org/officeDocument/2006/relationships/slide" Target="slide15.xml"/><Relationship Id="rId26" Type="http://schemas.openxmlformats.org/officeDocument/2006/relationships/image" Target="../media/image18.png"/><Relationship Id="rId27" Type="http://schemas.openxmlformats.org/officeDocument/2006/relationships/slide" Target="slide16.xml"/><Relationship Id="rId28" Type="http://schemas.openxmlformats.org/officeDocument/2006/relationships/image" Target="../media/image19.png"/><Relationship Id="rId29" Type="http://schemas.openxmlformats.org/officeDocument/2006/relationships/slide" Target="slide17.xml"/><Relationship Id="rId30" Type="http://schemas.openxmlformats.org/officeDocument/2006/relationships/image" Target="../media/image20.png"/><Relationship Id="rId31" Type="http://schemas.openxmlformats.org/officeDocument/2006/relationships/slide" Target="slide18.xml"/><Relationship Id="rId32" Type="http://schemas.openxmlformats.org/officeDocument/2006/relationships/image" Target="../media/image21.png"/><Relationship Id="rId33" Type="http://schemas.openxmlformats.org/officeDocument/2006/relationships/image" Target="../media/image1.png"/><Relationship Id="rId3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1"/>
          <a:stretch/>
        </p:blipFill>
        <p:spPr>
          <a:xfrm>
            <a:off x="1066680" y="171360"/>
            <a:ext cx="7169400" cy="1193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857160" y="5500800"/>
            <a:ext cx="721512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апитаны команд выбирают область знаний, берут квадрат и идут к команд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гейме задается по три вопроса каждой команде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5 очков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Скругленный прямоугольник 3"/>
          <p:cNvGrpSpPr/>
          <p:nvPr/>
        </p:nvGrpSpPr>
        <p:grpSpPr>
          <a:xfrm>
            <a:off x="865080" y="890640"/>
            <a:ext cx="7334280" cy="1120680"/>
            <a:chOff x="865080" y="890640"/>
            <a:chExt cx="7334280" cy="1120680"/>
          </a:xfrm>
        </p:grpSpPr>
        <p:pic>
          <p:nvPicPr>
            <p:cNvPr id="44" name="Скругленный 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865080" y="890640"/>
              <a:ext cx="733428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977760" y="977760"/>
              <a:ext cx="711684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Сигналы  светофора, дорожная разметка 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Скругленный прямоугольник 4"/>
          <p:cNvGrpSpPr/>
          <p:nvPr/>
        </p:nvGrpSpPr>
        <p:grpSpPr>
          <a:xfrm>
            <a:off x="865080" y="2036880"/>
            <a:ext cx="7407360" cy="1120680"/>
            <a:chOff x="865080" y="2036880"/>
            <a:chExt cx="7407360" cy="1120680"/>
          </a:xfrm>
        </p:grpSpPr>
        <p:pic>
          <p:nvPicPr>
            <p:cNvPr id="47" name="Скругленный прямоугольник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865080" y="2036880"/>
              <a:ext cx="740736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977760" y="2120760"/>
              <a:ext cx="71884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Обязанности пассажиров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Скругленный прямоугольник 5"/>
          <p:cNvGrpSpPr/>
          <p:nvPr/>
        </p:nvGrpSpPr>
        <p:grpSpPr>
          <a:xfrm>
            <a:off x="865080" y="3176640"/>
            <a:ext cx="7407360" cy="1120680"/>
            <a:chOff x="865080" y="3176640"/>
            <a:chExt cx="7407360" cy="1120680"/>
          </a:xfrm>
        </p:grpSpPr>
        <p:pic>
          <p:nvPicPr>
            <p:cNvPr id="50" name="Скругленный прямоугольник 5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65080" y="3176640"/>
              <a:ext cx="740736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977760" y="3263760"/>
              <a:ext cx="71884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Правила перехода улиц и дорог 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Скругленный прямоугольник 6"/>
          <p:cNvGrpSpPr/>
          <p:nvPr/>
        </p:nvGrpSpPr>
        <p:grpSpPr>
          <a:xfrm>
            <a:off x="865080" y="4322880"/>
            <a:ext cx="7407360" cy="1120680"/>
            <a:chOff x="865080" y="4322880"/>
            <a:chExt cx="7407360" cy="1120680"/>
          </a:xfrm>
        </p:grpSpPr>
        <p:pic>
          <p:nvPicPr>
            <p:cNvPr id="53" name="Скругленный прямоугольник 6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865080" y="4322880"/>
              <a:ext cx="740736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77760" y="4406760"/>
              <a:ext cx="7188480" cy="90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Дорожные знаки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Прямоугольник 1" descr=""/>
          <p:cNvPicPr/>
          <p:nvPr/>
        </p:nvPicPr>
        <p:blipFill>
          <a:blip r:embed="rId1"/>
          <a:stretch/>
        </p:blipFill>
        <p:spPr>
          <a:xfrm>
            <a:off x="590400" y="1994040"/>
            <a:ext cx="7847280" cy="1888920"/>
          </a:xfrm>
          <a:prstGeom prst="rect">
            <a:avLst/>
          </a:prstGeom>
          <a:ln w="0">
            <a:noFill/>
          </a:ln>
        </p:spPr>
      </p:pic>
      <p:grpSp>
        <p:nvGrpSpPr>
          <p:cNvPr id="142" name="Прямоугольник 2"/>
          <p:cNvGrpSpPr/>
          <p:nvPr/>
        </p:nvGrpSpPr>
        <p:grpSpPr>
          <a:xfrm>
            <a:off x="1511280" y="341280"/>
            <a:ext cx="6754680" cy="981000"/>
            <a:chOff x="1511280" y="341280"/>
            <a:chExt cx="6754680" cy="981000"/>
          </a:xfrm>
        </p:grpSpPr>
        <p:pic>
          <p:nvPicPr>
            <p:cNvPr id="143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511280" y="341280"/>
              <a:ext cx="675468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571760" y="428760"/>
              <a:ext cx="6638760" cy="8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Обязанности пассажиров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Управляющая кнопка: возврат 3"/>
          <p:cNvSpPr/>
          <p:nvPr/>
        </p:nvSpPr>
        <p:spPr>
          <a:xfrm>
            <a:off x="7858080" y="607212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7493"/>
                </a:moveTo>
                <a:lnTo>
                  <a:pt x="16555" y="7493"/>
                </a:lnTo>
                <a:lnTo>
                  <a:pt x="16555" y="12828"/>
                </a:lnTo>
                <a:cubicBezTo>
                  <a:pt x="16555" y="13751"/>
                  <a:pt x="17356" y="14482"/>
                  <a:pt x="18391" y="14482"/>
                </a:cubicBezTo>
                <a:lnTo>
                  <a:pt x="20054" y="14482"/>
                </a:lnTo>
                <a:cubicBezTo>
                  <a:pt x="21090" y="14482"/>
                  <a:pt x="21890" y="13751"/>
                  <a:pt x="21890" y="12828"/>
                </a:cubicBezTo>
                <a:lnTo>
                  <a:pt x="21890" y="7493"/>
                </a:lnTo>
                <a:lnTo>
                  <a:pt x="20054" y="7493"/>
                </a:lnTo>
                <a:lnTo>
                  <a:pt x="23561" y="3985"/>
                </a:lnTo>
                <a:lnTo>
                  <a:pt x="27234" y="7493"/>
                </a:lnTo>
                <a:lnTo>
                  <a:pt x="25398" y="7493"/>
                </a:lnTo>
                <a:lnTo>
                  <a:pt x="25398" y="12828"/>
                </a:lnTo>
                <a:cubicBezTo>
                  <a:pt x="25398" y="15596"/>
                  <a:pt x="22822" y="18155"/>
                  <a:pt x="20054" y="18155"/>
                </a:cubicBezTo>
                <a:lnTo>
                  <a:pt x="18391" y="18155"/>
                </a:lnTo>
                <a:cubicBezTo>
                  <a:pt x="15624" y="18155"/>
                  <a:pt x="13047" y="15596"/>
                  <a:pt x="13047" y="12828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Прямоугольник 1" descr=""/>
          <p:cNvPicPr/>
          <p:nvPr/>
        </p:nvPicPr>
        <p:blipFill>
          <a:blip r:embed="rId1"/>
          <a:stretch/>
        </p:blipFill>
        <p:spPr>
          <a:xfrm>
            <a:off x="195120" y="1914480"/>
            <a:ext cx="8595000" cy="1712880"/>
          </a:xfrm>
          <a:prstGeom prst="rect">
            <a:avLst/>
          </a:prstGeom>
          <a:ln w="0">
            <a:noFill/>
          </a:ln>
        </p:spPr>
      </p:pic>
      <p:grpSp>
        <p:nvGrpSpPr>
          <p:cNvPr id="147" name="Прямоугольник 2"/>
          <p:cNvGrpSpPr/>
          <p:nvPr/>
        </p:nvGrpSpPr>
        <p:grpSpPr>
          <a:xfrm>
            <a:off x="938160" y="438120"/>
            <a:ext cx="7334280" cy="1103040"/>
            <a:chOff x="938160" y="438120"/>
            <a:chExt cx="7334280" cy="1103040"/>
          </a:xfrm>
        </p:grpSpPr>
        <p:pic>
          <p:nvPicPr>
            <p:cNvPr id="148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938160" y="438120"/>
              <a:ext cx="73342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000080" y="500040"/>
              <a:ext cx="721512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Правила перехода улиц и дорог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Управляющая кнопка: возврат 4"/>
          <p:cNvSpPr/>
          <p:nvPr/>
        </p:nvSpPr>
        <p:spPr>
          <a:xfrm>
            <a:off x="7858080" y="607212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7493"/>
                </a:moveTo>
                <a:lnTo>
                  <a:pt x="16555" y="7493"/>
                </a:lnTo>
                <a:lnTo>
                  <a:pt x="16555" y="12828"/>
                </a:lnTo>
                <a:cubicBezTo>
                  <a:pt x="16555" y="13751"/>
                  <a:pt x="17356" y="14482"/>
                  <a:pt x="18391" y="14482"/>
                </a:cubicBezTo>
                <a:lnTo>
                  <a:pt x="20054" y="14482"/>
                </a:lnTo>
                <a:cubicBezTo>
                  <a:pt x="21090" y="14482"/>
                  <a:pt x="21890" y="13751"/>
                  <a:pt x="21890" y="12828"/>
                </a:cubicBezTo>
                <a:lnTo>
                  <a:pt x="21890" y="7493"/>
                </a:lnTo>
                <a:lnTo>
                  <a:pt x="20054" y="7493"/>
                </a:lnTo>
                <a:lnTo>
                  <a:pt x="23561" y="3985"/>
                </a:lnTo>
                <a:lnTo>
                  <a:pt x="27234" y="7493"/>
                </a:lnTo>
                <a:lnTo>
                  <a:pt x="25398" y="7493"/>
                </a:lnTo>
                <a:lnTo>
                  <a:pt x="25398" y="12828"/>
                </a:lnTo>
                <a:cubicBezTo>
                  <a:pt x="25398" y="15596"/>
                  <a:pt x="22822" y="18155"/>
                  <a:pt x="20054" y="18155"/>
                </a:cubicBezTo>
                <a:lnTo>
                  <a:pt x="18391" y="18155"/>
                </a:lnTo>
                <a:cubicBezTo>
                  <a:pt x="15624" y="18155"/>
                  <a:pt x="13047" y="15596"/>
                  <a:pt x="13047" y="12828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Прямоугольник 1" descr=""/>
          <p:cNvPicPr/>
          <p:nvPr/>
        </p:nvPicPr>
        <p:blipFill>
          <a:blip r:embed="rId1"/>
          <a:stretch/>
        </p:blipFill>
        <p:spPr>
          <a:xfrm>
            <a:off x="268200" y="2206800"/>
            <a:ext cx="8594640" cy="3133440"/>
          </a:xfrm>
          <a:prstGeom prst="rect">
            <a:avLst/>
          </a:prstGeom>
          <a:ln w="0">
            <a:noFill/>
          </a:ln>
        </p:spPr>
      </p:pic>
      <p:grpSp>
        <p:nvGrpSpPr>
          <p:cNvPr id="152" name="Прямоугольник 2"/>
          <p:cNvGrpSpPr/>
          <p:nvPr/>
        </p:nvGrpSpPr>
        <p:grpSpPr>
          <a:xfrm>
            <a:off x="865080" y="438120"/>
            <a:ext cx="7334280" cy="1103040"/>
            <a:chOff x="865080" y="438120"/>
            <a:chExt cx="7334280" cy="1103040"/>
          </a:xfrm>
        </p:grpSpPr>
        <p:pic>
          <p:nvPicPr>
            <p:cNvPr id="153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865080" y="438120"/>
              <a:ext cx="73342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928800" y="500040"/>
              <a:ext cx="721512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Правила перехода улиц и дорог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Управляющая кнопка: возврат 4"/>
          <p:cNvSpPr/>
          <p:nvPr/>
        </p:nvSpPr>
        <p:spPr>
          <a:xfrm>
            <a:off x="7858080" y="607212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7493"/>
                </a:moveTo>
                <a:lnTo>
                  <a:pt x="16555" y="7493"/>
                </a:lnTo>
                <a:lnTo>
                  <a:pt x="16555" y="12828"/>
                </a:lnTo>
                <a:cubicBezTo>
                  <a:pt x="16555" y="13751"/>
                  <a:pt x="17356" y="14482"/>
                  <a:pt x="18391" y="14482"/>
                </a:cubicBezTo>
                <a:lnTo>
                  <a:pt x="20054" y="14482"/>
                </a:lnTo>
                <a:cubicBezTo>
                  <a:pt x="21090" y="14482"/>
                  <a:pt x="21890" y="13751"/>
                  <a:pt x="21890" y="12828"/>
                </a:cubicBezTo>
                <a:lnTo>
                  <a:pt x="21890" y="7493"/>
                </a:lnTo>
                <a:lnTo>
                  <a:pt x="20054" y="7493"/>
                </a:lnTo>
                <a:lnTo>
                  <a:pt x="23561" y="3985"/>
                </a:lnTo>
                <a:lnTo>
                  <a:pt x="27234" y="7493"/>
                </a:lnTo>
                <a:lnTo>
                  <a:pt x="25398" y="7493"/>
                </a:lnTo>
                <a:lnTo>
                  <a:pt x="25398" y="12828"/>
                </a:lnTo>
                <a:cubicBezTo>
                  <a:pt x="25398" y="15596"/>
                  <a:pt x="22822" y="18155"/>
                  <a:pt x="20054" y="18155"/>
                </a:cubicBezTo>
                <a:lnTo>
                  <a:pt x="18391" y="18155"/>
                </a:lnTo>
                <a:cubicBezTo>
                  <a:pt x="15624" y="18155"/>
                  <a:pt x="13047" y="15596"/>
                  <a:pt x="13047" y="12828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Прямоугольник 1" descr=""/>
          <p:cNvPicPr/>
          <p:nvPr/>
        </p:nvPicPr>
        <p:blipFill>
          <a:blip r:embed="rId1"/>
          <a:stretch/>
        </p:blipFill>
        <p:spPr>
          <a:xfrm>
            <a:off x="158760" y="1852560"/>
            <a:ext cx="8631360" cy="3621240"/>
          </a:xfrm>
          <a:prstGeom prst="rect">
            <a:avLst/>
          </a:prstGeom>
          <a:ln w="0">
            <a:noFill/>
          </a:ln>
        </p:spPr>
      </p:pic>
      <p:grpSp>
        <p:nvGrpSpPr>
          <p:cNvPr id="157" name="Прямоугольник 2"/>
          <p:cNvGrpSpPr/>
          <p:nvPr/>
        </p:nvGrpSpPr>
        <p:grpSpPr>
          <a:xfrm>
            <a:off x="865080" y="438120"/>
            <a:ext cx="7334280" cy="1103040"/>
            <a:chOff x="865080" y="438120"/>
            <a:chExt cx="7334280" cy="1103040"/>
          </a:xfrm>
        </p:grpSpPr>
        <p:pic>
          <p:nvPicPr>
            <p:cNvPr id="158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865080" y="438120"/>
              <a:ext cx="73342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928800" y="500040"/>
              <a:ext cx="721512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Правила перехода улиц и дорог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Управляющая кнопка: возврат 4"/>
          <p:cNvSpPr/>
          <p:nvPr/>
        </p:nvSpPr>
        <p:spPr>
          <a:xfrm>
            <a:off x="7858080" y="607212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7493"/>
                </a:moveTo>
                <a:lnTo>
                  <a:pt x="16555" y="7493"/>
                </a:lnTo>
                <a:lnTo>
                  <a:pt x="16555" y="12828"/>
                </a:lnTo>
                <a:cubicBezTo>
                  <a:pt x="16555" y="13751"/>
                  <a:pt x="17356" y="14482"/>
                  <a:pt x="18391" y="14482"/>
                </a:cubicBezTo>
                <a:lnTo>
                  <a:pt x="20054" y="14482"/>
                </a:lnTo>
                <a:cubicBezTo>
                  <a:pt x="21090" y="14482"/>
                  <a:pt x="21890" y="13751"/>
                  <a:pt x="21890" y="12828"/>
                </a:cubicBezTo>
                <a:lnTo>
                  <a:pt x="21890" y="7493"/>
                </a:lnTo>
                <a:lnTo>
                  <a:pt x="20054" y="7493"/>
                </a:lnTo>
                <a:lnTo>
                  <a:pt x="23561" y="3985"/>
                </a:lnTo>
                <a:lnTo>
                  <a:pt x="27234" y="7493"/>
                </a:lnTo>
                <a:lnTo>
                  <a:pt x="25398" y="7493"/>
                </a:lnTo>
                <a:lnTo>
                  <a:pt x="25398" y="12828"/>
                </a:lnTo>
                <a:cubicBezTo>
                  <a:pt x="25398" y="15596"/>
                  <a:pt x="22822" y="18155"/>
                  <a:pt x="20054" y="18155"/>
                </a:cubicBezTo>
                <a:lnTo>
                  <a:pt x="18391" y="18155"/>
                </a:lnTo>
                <a:cubicBezTo>
                  <a:pt x="15624" y="18155"/>
                  <a:pt x="13047" y="15596"/>
                  <a:pt x="13047" y="12828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Прямоугольник 1" descr=""/>
          <p:cNvPicPr/>
          <p:nvPr/>
        </p:nvPicPr>
        <p:blipFill>
          <a:blip r:embed="rId1"/>
          <a:stretch/>
        </p:blipFill>
        <p:spPr>
          <a:xfrm>
            <a:off x="304920" y="1706400"/>
            <a:ext cx="8631000" cy="3627720"/>
          </a:xfrm>
          <a:prstGeom prst="rect">
            <a:avLst/>
          </a:prstGeom>
          <a:ln w="0">
            <a:noFill/>
          </a:ln>
        </p:spPr>
      </p:pic>
      <p:grpSp>
        <p:nvGrpSpPr>
          <p:cNvPr id="162" name="Прямоугольник 2"/>
          <p:cNvGrpSpPr/>
          <p:nvPr/>
        </p:nvGrpSpPr>
        <p:grpSpPr>
          <a:xfrm>
            <a:off x="865080" y="438120"/>
            <a:ext cx="7334280" cy="1103040"/>
            <a:chOff x="865080" y="438120"/>
            <a:chExt cx="7334280" cy="1103040"/>
          </a:xfrm>
        </p:grpSpPr>
        <p:pic>
          <p:nvPicPr>
            <p:cNvPr id="163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865080" y="438120"/>
              <a:ext cx="73342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928800" y="500040"/>
              <a:ext cx="721512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Правила перехода улиц и дорог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Управляющая кнопка: возврат 3"/>
          <p:cNvSpPr/>
          <p:nvPr/>
        </p:nvSpPr>
        <p:spPr>
          <a:xfrm>
            <a:off x="7858080" y="607212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7493"/>
                </a:moveTo>
                <a:lnTo>
                  <a:pt x="16555" y="7493"/>
                </a:lnTo>
                <a:lnTo>
                  <a:pt x="16555" y="12828"/>
                </a:lnTo>
                <a:cubicBezTo>
                  <a:pt x="16555" y="13751"/>
                  <a:pt x="17356" y="14482"/>
                  <a:pt x="18391" y="14482"/>
                </a:cubicBezTo>
                <a:lnTo>
                  <a:pt x="20054" y="14482"/>
                </a:lnTo>
                <a:cubicBezTo>
                  <a:pt x="21090" y="14482"/>
                  <a:pt x="21890" y="13751"/>
                  <a:pt x="21890" y="12828"/>
                </a:cubicBezTo>
                <a:lnTo>
                  <a:pt x="21890" y="7493"/>
                </a:lnTo>
                <a:lnTo>
                  <a:pt x="20054" y="7493"/>
                </a:lnTo>
                <a:lnTo>
                  <a:pt x="23561" y="3985"/>
                </a:lnTo>
                <a:lnTo>
                  <a:pt x="27234" y="7493"/>
                </a:lnTo>
                <a:lnTo>
                  <a:pt x="25398" y="7493"/>
                </a:lnTo>
                <a:lnTo>
                  <a:pt x="25398" y="12828"/>
                </a:lnTo>
                <a:cubicBezTo>
                  <a:pt x="25398" y="15596"/>
                  <a:pt x="22822" y="18155"/>
                  <a:pt x="20054" y="18155"/>
                </a:cubicBezTo>
                <a:lnTo>
                  <a:pt x="18391" y="18155"/>
                </a:lnTo>
                <a:cubicBezTo>
                  <a:pt x="15624" y="18155"/>
                  <a:pt x="13047" y="15596"/>
                  <a:pt x="13047" y="12828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Подзаголовок 2" descr=""/>
          <p:cNvPicPr/>
          <p:nvPr/>
        </p:nvPicPr>
        <p:blipFill>
          <a:blip r:embed="rId1"/>
          <a:stretch/>
        </p:blipFill>
        <p:spPr>
          <a:xfrm>
            <a:off x="590400" y="1494000"/>
            <a:ext cx="7847280" cy="2011320"/>
          </a:xfrm>
          <a:prstGeom prst="rect">
            <a:avLst/>
          </a:prstGeom>
          <a:ln w="0">
            <a:noFill/>
          </a:ln>
        </p:spPr>
      </p:pic>
      <p:grpSp>
        <p:nvGrpSpPr>
          <p:cNvPr id="167" name="Прямоугольник 3"/>
          <p:cNvGrpSpPr/>
          <p:nvPr/>
        </p:nvGrpSpPr>
        <p:grpSpPr>
          <a:xfrm>
            <a:off x="1225440" y="201600"/>
            <a:ext cx="6755040" cy="974880"/>
            <a:chOff x="1225440" y="201600"/>
            <a:chExt cx="6755040" cy="974880"/>
          </a:xfrm>
        </p:grpSpPr>
        <p:pic>
          <p:nvPicPr>
            <p:cNvPr id="168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225440" y="201600"/>
              <a:ext cx="675504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285920" y="285840"/>
              <a:ext cx="6638760" cy="8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Дорожные знак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Управляющая кнопка: возврат 5"/>
          <p:cNvSpPr/>
          <p:nvPr/>
        </p:nvSpPr>
        <p:spPr>
          <a:xfrm>
            <a:off x="7858080" y="607212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7493"/>
                </a:moveTo>
                <a:lnTo>
                  <a:pt x="16555" y="7493"/>
                </a:lnTo>
                <a:lnTo>
                  <a:pt x="16555" y="12828"/>
                </a:lnTo>
                <a:cubicBezTo>
                  <a:pt x="16555" y="13751"/>
                  <a:pt x="17356" y="14482"/>
                  <a:pt x="18391" y="14482"/>
                </a:cubicBezTo>
                <a:lnTo>
                  <a:pt x="20054" y="14482"/>
                </a:lnTo>
                <a:cubicBezTo>
                  <a:pt x="21090" y="14482"/>
                  <a:pt x="21890" y="13751"/>
                  <a:pt x="21890" y="12828"/>
                </a:cubicBezTo>
                <a:lnTo>
                  <a:pt x="21890" y="7493"/>
                </a:lnTo>
                <a:lnTo>
                  <a:pt x="20054" y="7493"/>
                </a:lnTo>
                <a:lnTo>
                  <a:pt x="23561" y="3985"/>
                </a:lnTo>
                <a:lnTo>
                  <a:pt x="27234" y="7493"/>
                </a:lnTo>
                <a:lnTo>
                  <a:pt x="25398" y="7493"/>
                </a:lnTo>
                <a:lnTo>
                  <a:pt x="25398" y="12828"/>
                </a:lnTo>
                <a:cubicBezTo>
                  <a:pt x="25398" y="15596"/>
                  <a:pt x="22822" y="18155"/>
                  <a:pt x="20054" y="18155"/>
                </a:cubicBezTo>
                <a:lnTo>
                  <a:pt x="18391" y="18155"/>
                </a:lnTo>
                <a:cubicBezTo>
                  <a:pt x="15624" y="18155"/>
                  <a:pt x="13047" y="15596"/>
                  <a:pt x="13047" y="12828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Подзаголовок 2" descr=""/>
          <p:cNvPicPr/>
          <p:nvPr/>
        </p:nvPicPr>
        <p:blipFill>
          <a:blip r:embed="rId1"/>
          <a:stretch/>
        </p:blipFill>
        <p:spPr>
          <a:xfrm>
            <a:off x="658800" y="1206360"/>
            <a:ext cx="7851960" cy="4151520"/>
          </a:xfrm>
          <a:prstGeom prst="rect">
            <a:avLst/>
          </a:prstGeom>
          <a:ln w="0">
            <a:noFill/>
          </a:ln>
        </p:spPr>
      </p:pic>
      <p:grpSp>
        <p:nvGrpSpPr>
          <p:cNvPr id="172" name="Прямоугольник 4"/>
          <p:cNvGrpSpPr/>
          <p:nvPr/>
        </p:nvGrpSpPr>
        <p:grpSpPr>
          <a:xfrm>
            <a:off x="1225440" y="201600"/>
            <a:ext cx="6755040" cy="974880"/>
            <a:chOff x="1225440" y="201600"/>
            <a:chExt cx="6755040" cy="974880"/>
          </a:xfrm>
        </p:grpSpPr>
        <p:pic>
          <p:nvPicPr>
            <p:cNvPr id="173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225440" y="201600"/>
              <a:ext cx="675504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285920" y="285840"/>
              <a:ext cx="6638760" cy="8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Дорожные знак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5" name="Управляющая кнопка: возврат 5"/>
          <p:cNvSpPr/>
          <p:nvPr/>
        </p:nvSpPr>
        <p:spPr>
          <a:xfrm>
            <a:off x="7858080" y="607212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7493"/>
                </a:moveTo>
                <a:lnTo>
                  <a:pt x="16555" y="7493"/>
                </a:lnTo>
                <a:lnTo>
                  <a:pt x="16555" y="12828"/>
                </a:lnTo>
                <a:cubicBezTo>
                  <a:pt x="16555" y="13751"/>
                  <a:pt x="17356" y="14482"/>
                  <a:pt x="18391" y="14482"/>
                </a:cubicBezTo>
                <a:lnTo>
                  <a:pt x="20054" y="14482"/>
                </a:lnTo>
                <a:cubicBezTo>
                  <a:pt x="21090" y="14482"/>
                  <a:pt x="21890" y="13751"/>
                  <a:pt x="21890" y="12828"/>
                </a:cubicBezTo>
                <a:lnTo>
                  <a:pt x="21890" y="7493"/>
                </a:lnTo>
                <a:lnTo>
                  <a:pt x="20054" y="7493"/>
                </a:lnTo>
                <a:lnTo>
                  <a:pt x="23561" y="3985"/>
                </a:lnTo>
                <a:lnTo>
                  <a:pt x="27234" y="7493"/>
                </a:lnTo>
                <a:lnTo>
                  <a:pt x="25398" y="7493"/>
                </a:lnTo>
                <a:lnTo>
                  <a:pt x="25398" y="12828"/>
                </a:lnTo>
                <a:cubicBezTo>
                  <a:pt x="25398" y="15596"/>
                  <a:pt x="22822" y="18155"/>
                  <a:pt x="20054" y="18155"/>
                </a:cubicBezTo>
                <a:lnTo>
                  <a:pt x="18391" y="18155"/>
                </a:lnTo>
                <a:cubicBezTo>
                  <a:pt x="15624" y="18155"/>
                  <a:pt x="13047" y="15596"/>
                  <a:pt x="13047" y="12828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Подзаголовок 2" descr=""/>
          <p:cNvPicPr/>
          <p:nvPr/>
        </p:nvPicPr>
        <p:blipFill>
          <a:blip r:embed="rId1"/>
          <a:stretch/>
        </p:blipFill>
        <p:spPr>
          <a:xfrm>
            <a:off x="590400" y="1639800"/>
            <a:ext cx="7847280" cy="4145040"/>
          </a:xfrm>
          <a:prstGeom prst="rect">
            <a:avLst/>
          </a:prstGeom>
          <a:ln w="0">
            <a:noFill/>
          </a:ln>
        </p:spPr>
      </p:pic>
      <p:grpSp>
        <p:nvGrpSpPr>
          <p:cNvPr id="177" name="Прямоугольник 3"/>
          <p:cNvGrpSpPr/>
          <p:nvPr/>
        </p:nvGrpSpPr>
        <p:grpSpPr>
          <a:xfrm>
            <a:off x="1365120" y="268200"/>
            <a:ext cx="6755040" cy="981000"/>
            <a:chOff x="1365120" y="268200"/>
            <a:chExt cx="6755040" cy="981000"/>
          </a:xfrm>
        </p:grpSpPr>
        <p:pic>
          <p:nvPicPr>
            <p:cNvPr id="178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365120" y="268200"/>
              <a:ext cx="675504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428840" y="357120"/>
              <a:ext cx="6638760" cy="8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Дорожные знак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Управляющая кнопка: возврат 5"/>
          <p:cNvSpPr/>
          <p:nvPr/>
        </p:nvSpPr>
        <p:spPr>
          <a:xfrm>
            <a:off x="7858080" y="607212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7493"/>
                </a:moveTo>
                <a:lnTo>
                  <a:pt x="16555" y="7493"/>
                </a:lnTo>
                <a:lnTo>
                  <a:pt x="16555" y="12828"/>
                </a:lnTo>
                <a:cubicBezTo>
                  <a:pt x="16555" y="13751"/>
                  <a:pt x="17356" y="14482"/>
                  <a:pt x="18391" y="14482"/>
                </a:cubicBezTo>
                <a:lnTo>
                  <a:pt x="20054" y="14482"/>
                </a:lnTo>
                <a:cubicBezTo>
                  <a:pt x="21090" y="14482"/>
                  <a:pt x="21890" y="13751"/>
                  <a:pt x="21890" y="12828"/>
                </a:cubicBezTo>
                <a:lnTo>
                  <a:pt x="21890" y="7493"/>
                </a:lnTo>
                <a:lnTo>
                  <a:pt x="20054" y="7493"/>
                </a:lnTo>
                <a:lnTo>
                  <a:pt x="23561" y="3985"/>
                </a:lnTo>
                <a:lnTo>
                  <a:pt x="27234" y="7493"/>
                </a:lnTo>
                <a:lnTo>
                  <a:pt x="25398" y="7493"/>
                </a:lnTo>
                <a:lnTo>
                  <a:pt x="25398" y="12828"/>
                </a:lnTo>
                <a:cubicBezTo>
                  <a:pt x="25398" y="15596"/>
                  <a:pt x="22822" y="18155"/>
                  <a:pt x="20054" y="18155"/>
                </a:cubicBezTo>
                <a:lnTo>
                  <a:pt x="18391" y="18155"/>
                </a:lnTo>
                <a:cubicBezTo>
                  <a:pt x="15624" y="18155"/>
                  <a:pt x="13047" y="15596"/>
                  <a:pt x="13047" y="12828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Подзаголовок 2" descr=""/>
          <p:cNvPicPr/>
          <p:nvPr/>
        </p:nvPicPr>
        <p:blipFill>
          <a:blip r:embed="rId1"/>
          <a:stretch/>
        </p:blipFill>
        <p:spPr>
          <a:xfrm>
            <a:off x="658800" y="1206360"/>
            <a:ext cx="7851960" cy="4151520"/>
          </a:xfrm>
          <a:prstGeom prst="rect">
            <a:avLst/>
          </a:prstGeom>
          <a:ln w="0">
            <a:noFill/>
          </a:ln>
        </p:spPr>
      </p:pic>
      <p:grpSp>
        <p:nvGrpSpPr>
          <p:cNvPr id="182" name="Прямоугольник 4"/>
          <p:cNvGrpSpPr/>
          <p:nvPr/>
        </p:nvGrpSpPr>
        <p:grpSpPr>
          <a:xfrm>
            <a:off x="1225440" y="201600"/>
            <a:ext cx="6755040" cy="974880"/>
            <a:chOff x="1225440" y="201600"/>
            <a:chExt cx="6755040" cy="974880"/>
          </a:xfrm>
        </p:grpSpPr>
        <p:pic>
          <p:nvPicPr>
            <p:cNvPr id="183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1225440" y="201600"/>
              <a:ext cx="675504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285920" y="285840"/>
              <a:ext cx="6638760" cy="8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Дорожные знак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Управляющая кнопка: возврат 5"/>
          <p:cNvSpPr/>
          <p:nvPr/>
        </p:nvSpPr>
        <p:spPr>
          <a:xfrm>
            <a:off x="7858080" y="607212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7493"/>
                </a:moveTo>
                <a:lnTo>
                  <a:pt x="16555" y="7493"/>
                </a:lnTo>
                <a:lnTo>
                  <a:pt x="16555" y="12828"/>
                </a:lnTo>
                <a:cubicBezTo>
                  <a:pt x="16555" y="13751"/>
                  <a:pt x="17356" y="14482"/>
                  <a:pt x="18391" y="14482"/>
                </a:cubicBezTo>
                <a:lnTo>
                  <a:pt x="20054" y="14482"/>
                </a:lnTo>
                <a:cubicBezTo>
                  <a:pt x="21090" y="14482"/>
                  <a:pt x="21890" y="13751"/>
                  <a:pt x="21890" y="12828"/>
                </a:cubicBezTo>
                <a:lnTo>
                  <a:pt x="21890" y="7493"/>
                </a:lnTo>
                <a:lnTo>
                  <a:pt x="20054" y="7493"/>
                </a:lnTo>
                <a:lnTo>
                  <a:pt x="23561" y="3985"/>
                </a:lnTo>
                <a:lnTo>
                  <a:pt x="27234" y="7493"/>
                </a:lnTo>
                <a:lnTo>
                  <a:pt x="25398" y="7493"/>
                </a:lnTo>
                <a:lnTo>
                  <a:pt x="25398" y="12828"/>
                </a:lnTo>
                <a:cubicBezTo>
                  <a:pt x="25398" y="15596"/>
                  <a:pt x="22822" y="18155"/>
                  <a:pt x="20054" y="18155"/>
                </a:cubicBezTo>
                <a:lnTo>
                  <a:pt x="18391" y="18155"/>
                </a:lnTo>
                <a:cubicBezTo>
                  <a:pt x="15624" y="18155"/>
                  <a:pt x="13047" y="15596"/>
                  <a:pt x="13047" y="12828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Скругленный прямоугольник 6"/>
          <p:cNvGrpSpPr/>
          <p:nvPr/>
        </p:nvGrpSpPr>
        <p:grpSpPr>
          <a:xfrm>
            <a:off x="755640" y="1125360"/>
            <a:ext cx="2041560" cy="1407960"/>
            <a:chOff x="755640" y="1125360"/>
            <a:chExt cx="2041560" cy="1407960"/>
          </a:xfrm>
        </p:grpSpPr>
        <p:pic>
          <p:nvPicPr>
            <p:cNvPr id="56" name="Скругленный прямоугольник 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55640" y="1125360"/>
              <a:ext cx="20415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879480" y="1228320"/>
              <a:ext cx="18018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Скругленный прямоугольник 7"/>
          <p:cNvGrpSpPr/>
          <p:nvPr/>
        </p:nvGrpSpPr>
        <p:grpSpPr>
          <a:xfrm>
            <a:off x="2651040" y="1103400"/>
            <a:ext cx="2049480" cy="1407960"/>
            <a:chOff x="2651040" y="1103400"/>
            <a:chExt cx="2049480" cy="1407960"/>
          </a:xfrm>
        </p:grpSpPr>
        <p:pic>
          <p:nvPicPr>
            <p:cNvPr id="59" name="Скругленный прямоугольник 7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2651040" y="1103400"/>
              <a:ext cx="204948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2778120" y="1206360"/>
              <a:ext cx="18018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Скругленный прямоугольник 8"/>
          <p:cNvGrpSpPr/>
          <p:nvPr/>
        </p:nvGrpSpPr>
        <p:grpSpPr>
          <a:xfrm>
            <a:off x="4572000" y="1125360"/>
            <a:ext cx="2041560" cy="1407960"/>
            <a:chOff x="4572000" y="1125360"/>
            <a:chExt cx="2041560" cy="1407960"/>
          </a:xfrm>
        </p:grpSpPr>
        <p:pic>
          <p:nvPicPr>
            <p:cNvPr id="62" name="Скругленный прямоугольник 8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572000" y="1125360"/>
              <a:ext cx="20415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694400" y="1228320"/>
              <a:ext cx="18018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Скругленный прямоугольник 9"/>
          <p:cNvGrpSpPr/>
          <p:nvPr/>
        </p:nvGrpSpPr>
        <p:grpSpPr>
          <a:xfrm>
            <a:off x="6510240" y="1103400"/>
            <a:ext cx="2048040" cy="1407960"/>
            <a:chOff x="6510240" y="1103400"/>
            <a:chExt cx="2048040" cy="1407960"/>
          </a:xfrm>
        </p:grpSpPr>
        <p:pic>
          <p:nvPicPr>
            <p:cNvPr id="65" name="Скругленный прямоугольник 9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6510240" y="1103400"/>
              <a:ext cx="20480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635880" y="1206360"/>
              <a:ext cx="18018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" name="Скругленный прямоугольник 10"/>
          <p:cNvGrpSpPr/>
          <p:nvPr/>
        </p:nvGrpSpPr>
        <p:grpSpPr>
          <a:xfrm>
            <a:off x="725400" y="2389320"/>
            <a:ext cx="2041560" cy="1407960"/>
            <a:chOff x="725400" y="2389320"/>
            <a:chExt cx="2041560" cy="1407960"/>
          </a:xfrm>
        </p:grpSpPr>
        <p:pic>
          <p:nvPicPr>
            <p:cNvPr id="68" name="Скругленный прямоугольник 10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725400" y="2389320"/>
              <a:ext cx="20415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849240" y="2492280"/>
              <a:ext cx="18018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" name="Скругленный прямоугольник 11"/>
          <p:cNvGrpSpPr/>
          <p:nvPr/>
        </p:nvGrpSpPr>
        <p:grpSpPr>
          <a:xfrm>
            <a:off x="2651040" y="2389320"/>
            <a:ext cx="2049480" cy="1407960"/>
            <a:chOff x="2651040" y="2389320"/>
            <a:chExt cx="2049480" cy="1407960"/>
          </a:xfrm>
        </p:grpSpPr>
        <p:pic>
          <p:nvPicPr>
            <p:cNvPr id="71" name="Скругленный прямоугольник 11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2651040" y="2389320"/>
              <a:ext cx="204948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2778120" y="2492280"/>
              <a:ext cx="18018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Скругленный прямоугольник 12"/>
          <p:cNvGrpSpPr/>
          <p:nvPr/>
        </p:nvGrpSpPr>
        <p:grpSpPr>
          <a:xfrm>
            <a:off x="4584600" y="2389320"/>
            <a:ext cx="2041560" cy="1407960"/>
            <a:chOff x="4584600" y="2389320"/>
            <a:chExt cx="2041560" cy="1407960"/>
          </a:xfrm>
        </p:grpSpPr>
        <p:pic>
          <p:nvPicPr>
            <p:cNvPr id="74" name="Скругленный прямоугольник 12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4584600" y="2389320"/>
              <a:ext cx="20415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4707000" y="2492280"/>
              <a:ext cx="18018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Скругленный прямоугольник 13"/>
          <p:cNvGrpSpPr/>
          <p:nvPr/>
        </p:nvGrpSpPr>
        <p:grpSpPr>
          <a:xfrm>
            <a:off x="6510240" y="2389320"/>
            <a:ext cx="2048040" cy="1407960"/>
            <a:chOff x="6510240" y="2389320"/>
            <a:chExt cx="2048040" cy="1407960"/>
          </a:xfrm>
        </p:grpSpPr>
        <p:pic>
          <p:nvPicPr>
            <p:cNvPr id="77" name="Скругленный прямоугольник 13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6510240" y="2389320"/>
              <a:ext cx="20480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635880" y="2492280"/>
              <a:ext cx="18018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Скругленный прямоугольник 18"/>
          <p:cNvGrpSpPr/>
          <p:nvPr/>
        </p:nvGrpSpPr>
        <p:grpSpPr>
          <a:xfrm>
            <a:off x="725400" y="3676680"/>
            <a:ext cx="2041560" cy="1407960"/>
            <a:chOff x="725400" y="3676680"/>
            <a:chExt cx="2041560" cy="1407960"/>
          </a:xfrm>
        </p:grpSpPr>
        <p:pic>
          <p:nvPicPr>
            <p:cNvPr id="80" name="Скругленный прямоугольник 18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725400" y="3676680"/>
              <a:ext cx="20415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849240" y="3778200"/>
              <a:ext cx="18018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Скругленный прямоугольник 19"/>
          <p:cNvGrpSpPr/>
          <p:nvPr/>
        </p:nvGrpSpPr>
        <p:grpSpPr>
          <a:xfrm>
            <a:off x="2651040" y="3676680"/>
            <a:ext cx="2049480" cy="1407960"/>
            <a:chOff x="2651040" y="3676680"/>
            <a:chExt cx="2049480" cy="1407960"/>
          </a:xfrm>
        </p:grpSpPr>
        <p:pic>
          <p:nvPicPr>
            <p:cNvPr id="83" name="Скругленный прямоугольник 19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2651040" y="3676680"/>
              <a:ext cx="204948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778120" y="3778200"/>
              <a:ext cx="18018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Скругленный прямоугольник 20"/>
          <p:cNvGrpSpPr/>
          <p:nvPr/>
        </p:nvGrpSpPr>
        <p:grpSpPr>
          <a:xfrm>
            <a:off x="4584600" y="3676680"/>
            <a:ext cx="2041560" cy="1407960"/>
            <a:chOff x="4584600" y="3676680"/>
            <a:chExt cx="2041560" cy="1407960"/>
          </a:xfrm>
        </p:grpSpPr>
        <p:pic>
          <p:nvPicPr>
            <p:cNvPr id="86" name="Скругленный прямоугольник 20" descr="">
              <a:hlinkClick r:id="rId21" action="ppaction://hlinksldjump"/>
            </p:cNvPr>
            <p:cNvPicPr/>
            <p:nvPr/>
          </p:nvPicPr>
          <p:blipFill>
            <a:blip r:embed="rId22"/>
            <a:stretch/>
          </p:blipFill>
          <p:spPr>
            <a:xfrm>
              <a:off x="4584600" y="3676680"/>
              <a:ext cx="20415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707000" y="3778200"/>
              <a:ext cx="18018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Скругленный прямоугольник 21"/>
          <p:cNvGrpSpPr/>
          <p:nvPr/>
        </p:nvGrpSpPr>
        <p:grpSpPr>
          <a:xfrm>
            <a:off x="6510240" y="3676680"/>
            <a:ext cx="2048040" cy="1407960"/>
            <a:chOff x="6510240" y="3676680"/>
            <a:chExt cx="2048040" cy="1407960"/>
          </a:xfrm>
        </p:grpSpPr>
        <p:pic>
          <p:nvPicPr>
            <p:cNvPr id="89" name="Скругленный прямоугольник 21" descr="">
              <a:hlinkClick r:id="rId23" action="ppaction://hlinksldjump"/>
            </p:cNvPr>
            <p:cNvPicPr/>
            <p:nvPr/>
          </p:nvPicPr>
          <p:blipFill>
            <a:blip r:embed="rId24"/>
            <a:stretch/>
          </p:blipFill>
          <p:spPr>
            <a:xfrm>
              <a:off x="6510240" y="3676680"/>
              <a:ext cx="20480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6635880" y="3778200"/>
              <a:ext cx="18018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Скругленный прямоугольник 22"/>
          <p:cNvGrpSpPr/>
          <p:nvPr/>
        </p:nvGrpSpPr>
        <p:grpSpPr>
          <a:xfrm>
            <a:off x="725400" y="4962600"/>
            <a:ext cx="2041560" cy="1407960"/>
            <a:chOff x="725400" y="4962600"/>
            <a:chExt cx="2041560" cy="1407960"/>
          </a:xfrm>
        </p:grpSpPr>
        <p:pic>
          <p:nvPicPr>
            <p:cNvPr id="92" name="Скругленный прямоугольник 22" descr="">
              <a:hlinkClick r:id="rId25" action="ppaction://hlinksldjump"/>
            </p:cNvPr>
            <p:cNvPicPr/>
            <p:nvPr/>
          </p:nvPicPr>
          <p:blipFill>
            <a:blip r:embed="rId26"/>
            <a:stretch/>
          </p:blipFill>
          <p:spPr>
            <a:xfrm>
              <a:off x="725400" y="4962600"/>
              <a:ext cx="20415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49240" y="5064120"/>
              <a:ext cx="18018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Скругленный прямоугольник 23"/>
          <p:cNvGrpSpPr/>
          <p:nvPr/>
        </p:nvGrpSpPr>
        <p:grpSpPr>
          <a:xfrm>
            <a:off x="2651040" y="4962600"/>
            <a:ext cx="2049480" cy="1407960"/>
            <a:chOff x="2651040" y="4962600"/>
            <a:chExt cx="2049480" cy="1407960"/>
          </a:xfrm>
        </p:grpSpPr>
        <p:pic>
          <p:nvPicPr>
            <p:cNvPr id="95" name="Скругленный прямоугольник 23" descr="">
              <a:hlinkClick r:id="rId27" action="ppaction://hlinksldjump"/>
            </p:cNvPr>
            <p:cNvPicPr/>
            <p:nvPr/>
          </p:nvPicPr>
          <p:blipFill>
            <a:blip r:embed="rId28"/>
            <a:stretch/>
          </p:blipFill>
          <p:spPr>
            <a:xfrm>
              <a:off x="2651040" y="4962600"/>
              <a:ext cx="204948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778120" y="5064120"/>
              <a:ext cx="18018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7" name="Скругленный прямоугольник 24"/>
          <p:cNvGrpSpPr/>
          <p:nvPr/>
        </p:nvGrpSpPr>
        <p:grpSpPr>
          <a:xfrm>
            <a:off x="4584600" y="4962600"/>
            <a:ext cx="2041560" cy="1407960"/>
            <a:chOff x="4584600" y="4962600"/>
            <a:chExt cx="2041560" cy="1407960"/>
          </a:xfrm>
        </p:grpSpPr>
        <p:pic>
          <p:nvPicPr>
            <p:cNvPr id="98" name="Скругленный прямоугольник 24" descr="">
              <a:hlinkClick r:id="rId29" action="ppaction://hlinksldjump"/>
            </p:cNvPr>
            <p:cNvPicPr/>
            <p:nvPr/>
          </p:nvPicPr>
          <p:blipFill>
            <a:blip r:embed="rId30"/>
            <a:stretch/>
          </p:blipFill>
          <p:spPr>
            <a:xfrm>
              <a:off x="4584600" y="4962600"/>
              <a:ext cx="20415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707000" y="5064120"/>
              <a:ext cx="18018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Скругленный прямоугольник 25"/>
          <p:cNvGrpSpPr/>
          <p:nvPr/>
        </p:nvGrpSpPr>
        <p:grpSpPr>
          <a:xfrm>
            <a:off x="6510240" y="4962600"/>
            <a:ext cx="2048040" cy="1407960"/>
            <a:chOff x="6510240" y="4962600"/>
            <a:chExt cx="2048040" cy="1407960"/>
          </a:xfrm>
        </p:grpSpPr>
        <p:pic>
          <p:nvPicPr>
            <p:cNvPr id="101" name="Скругленный прямоугольник 25" descr="">
              <a:hlinkClick r:id="rId31" action="ppaction://hlinksldjump"/>
            </p:cNvPr>
            <p:cNvPicPr/>
            <p:nvPr/>
          </p:nvPicPr>
          <p:blipFill>
            <a:blip r:embed="rId32"/>
            <a:stretch/>
          </p:blipFill>
          <p:spPr>
            <a:xfrm>
              <a:off x="6510240" y="4962600"/>
              <a:ext cx="204804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6635880" y="5064120"/>
              <a:ext cx="180180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Rectangle 2" descr=""/>
          <p:cNvPicPr/>
          <p:nvPr/>
        </p:nvPicPr>
        <p:blipFill>
          <a:blip r:embed="rId33"/>
          <a:stretch/>
        </p:blipFill>
        <p:spPr>
          <a:xfrm>
            <a:off x="1042920" y="189000"/>
            <a:ext cx="7169040" cy="1193760"/>
          </a:xfrm>
          <a:prstGeom prst="rect">
            <a:avLst/>
          </a:prstGeom>
          <a:ln w="0">
            <a:noFill/>
          </a:ln>
        </p:spPr>
      </p:pic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13452" y="3837"/>
                </a:moveTo>
                <a:lnTo>
                  <a:pt x="16029" y="6448"/>
                </a:lnTo>
                <a:lnTo>
                  <a:pt x="16029" y="4707"/>
                </a:lnTo>
                <a:lnTo>
                  <a:pt x="17804" y="4707"/>
                </a:lnTo>
                <a:lnTo>
                  <a:pt x="17804" y="8224"/>
                </a:lnTo>
                <a:lnTo>
                  <a:pt x="20415" y="10800"/>
                </a:lnTo>
                <a:lnTo>
                  <a:pt x="18762" y="10800"/>
                </a:lnTo>
                <a:lnTo>
                  <a:pt x="18762" y="17989"/>
                </a:lnTo>
                <a:lnTo>
                  <a:pt x="8143" y="17989"/>
                </a:lnTo>
                <a:lnTo>
                  <a:pt x="8143" y="10800"/>
                </a:lnTo>
                <a:lnTo>
                  <a:pt x="6489" y="10800"/>
                </a:lnTo>
                <a:close/>
              </a:path>
              <a:path fill="darkenLess" w="26905" h="21600">
                <a:moveTo>
                  <a:pt x="16029" y="6448"/>
                </a:moveTo>
                <a:lnTo>
                  <a:pt x="16029" y="4707"/>
                </a:lnTo>
                <a:lnTo>
                  <a:pt x="17804" y="4707"/>
                </a:lnTo>
                <a:lnTo>
                  <a:pt x="17804" y="8224"/>
                </a:lnTo>
                <a:close/>
              </a:path>
              <a:path fill="darkenLess" w="26905" h="21600">
                <a:moveTo>
                  <a:pt x="12530" y="14299"/>
                </a:moveTo>
                <a:lnTo>
                  <a:pt x="14375" y="14299"/>
                </a:lnTo>
                <a:lnTo>
                  <a:pt x="14375" y="17989"/>
                </a:lnTo>
                <a:lnTo>
                  <a:pt x="18762" y="17989"/>
                </a:lnTo>
                <a:lnTo>
                  <a:pt x="18762" y="10800"/>
                </a:lnTo>
                <a:lnTo>
                  <a:pt x="8143" y="10800"/>
                </a:lnTo>
                <a:lnTo>
                  <a:pt x="8143" y="17989"/>
                </a:lnTo>
                <a:lnTo>
                  <a:pt x="12530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Заголовок 1"/>
          <p:cNvGrpSpPr/>
          <p:nvPr/>
        </p:nvGrpSpPr>
        <p:grpSpPr>
          <a:xfrm>
            <a:off x="798480" y="463680"/>
            <a:ext cx="7888320" cy="1109520"/>
            <a:chOff x="798480" y="463680"/>
            <a:chExt cx="7888320" cy="1109520"/>
          </a:xfrm>
        </p:grpSpPr>
        <p:pic>
          <p:nvPicPr>
            <p:cNvPr id="106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798480" y="463680"/>
              <a:ext cx="7888320" cy="11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57160" y="500040"/>
              <a:ext cx="77724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Сигналы светофора, дорожная разметк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Управляющая кнопка: возврат 5">
            <a:hlinkClick r:id="rId2" action="ppaction://hlinksldjump"/>
          </p:cNvPr>
          <p:cNvSpPr/>
          <p:nvPr/>
        </p:nvSpPr>
        <p:spPr>
          <a:xfrm>
            <a:off x="7858080" y="607212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7493"/>
                </a:moveTo>
                <a:lnTo>
                  <a:pt x="16555" y="7493"/>
                </a:lnTo>
                <a:lnTo>
                  <a:pt x="16555" y="12828"/>
                </a:lnTo>
                <a:cubicBezTo>
                  <a:pt x="16555" y="13751"/>
                  <a:pt x="17356" y="14482"/>
                  <a:pt x="18391" y="14482"/>
                </a:cubicBezTo>
                <a:lnTo>
                  <a:pt x="20054" y="14482"/>
                </a:lnTo>
                <a:cubicBezTo>
                  <a:pt x="21090" y="14482"/>
                  <a:pt x="21890" y="13751"/>
                  <a:pt x="21890" y="12828"/>
                </a:cubicBezTo>
                <a:lnTo>
                  <a:pt x="21890" y="7493"/>
                </a:lnTo>
                <a:lnTo>
                  <a:pt x="20054" y="7493"/>
                </a:lnTo>
                <a:lnTo>
                  <a:pt x="23561" y="3985"/>
                </a:lnTo>
                <a:lnTo>
                  <a:pt x="27234" y="7493"/>
                </a:lnTo>
                <a:lnTo>
                  <a:pt x="25398" y="7493"/>
                </a:lnTo>
                <a:lnTo>
                  <a:pt x="25398" y="12828"/>
                </a:lnTo>
                <a:cubicBezTo>
                  <a:pt x="25398" y="15596"/>
                  <a:pt x="22822" y="18155"/>
                  <a:pt x="20054" y="18155"/>
                </a:cubicBezTo>
                <a:lnTo>
                  <a:pt x="18391" y="18155"/>
                </a:lnTo>
                <a:cubicBezTo>
                  <a:pt x="15624" y="18155"/>
                  <a:pt x="13047" y="15596"/>
                  <a:pt x="13047" y="12828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Подзаголовок 2" descr=""/>
          <p:cNvPicPr/>
          <p:nvPr/>
        </p:nvPicPr>
        <p:blipFill>
          <a:blip r:embed="rId3"/>
          <a:stretch/>
        </p:blipFill>
        <p:spPr>
          <a:xfrm>
            <a:off x="781200" y="1994040"/>
            <a:ext cx="7869240" cy="36511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7.jpg"/>
          <p:cNvPicPr/>
          <p:nvPr/>
        </p:nvPicPr>
        <p:blipFill>
          <a:blip r:embed="rId4"/>
          <a:stretch/>
        </p:blipFill>
        <p:spPr>
          <a:xfrm>
            <a:off x="4286160" y="4357800"/>
            <a:ext cx="10479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одзаголовок 2" descr=""/>
          <p:cNvPicPr/>
          <p:nvPr/>
        </p:nvPicPr>
        <p:blipFill>
          <a:blip r:embed="rId1"/>
          <a:stretch/>
        </p:blipFill>
        <p:spPr>
          <a:xfrm>
            <a:off x="566640" y="1994040"/>
            <a:ext cx="8083800" cy="3651120"/>
          </a:xfrm>
          <a:prstGeom prst="rect">
            <a:avLst/>
          </a:prstGeom>
          <a:ln w="0">
            <a:noFill/>
          </a:ln>
        </p:spPr>
      </p:pic>
      <p:grpSp>
        <p:nvGrpSpPr>
          <p:cNvPr id="112" name="Заголовок 1"/>
          <p:cNvGrpSpPr/>
          <p:nvPr/>
        </p:nvGrpSpPr>
        <p:grpSpPr>
          <a:xfrm>
            <a:off x="725400" y="324000"/>
            <a:ext cx="7888320" cy="1108080"/>
            <a:chOff x="725400" y="324000"/>
            <a:chExt cx="7888320" cy="1108080"/>
          </a:xfrm>
        </p:grpSpPr>
        <p:pic>
          <p:nvPicPr>
            <p:cNvPr id="113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725400" y="324000"/>
              <a:ext cx="788832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85880" y="357120"/>
              <a:ext cx="77724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Сигналы светофора, дорожная разметк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Управляющая кнопка: возврат 5">
            <a:hlinkClick r:id="rId3" action="ppaction://hlinksldjump"/>
          </p:cNvPr>
          <p:cNvSpPr/>
          <p:nvPr/>
        </p:nvSpPr>
        <p:spPr>
          <a:xfrm>
            <a:off x="7858080" y="607212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7493"/>
                </a:moveTo>
                <a:lnTo>
                  <a:pt x="16555" y="7493"/>
                </a:lnTo>
                <a:lnTo>
                  <a:pt x="16555" y="12828"/>
                </a:lnTo>
                <a:cubicBezTo>
                  <a:pt x="16555" y="13751"/>
                  <a:pt x="17356" y="14482"/>
                  <a:pt x="18391" y="14482"/>
                </a:cubicBezTo>
                <a:lnTo>
                  <a:pt x="20054" y="14482"/>
                </a:lnTo>
                <a:cubicBezTo>
                  <a:pt x="21090" y="14482"/>
                  <a:pt x="21890" y="13751"/>
                  <a:pt x="21890" y="12828"/>
                </a:cubicBezTo>
                <a:lnTo>
                  <a:pt x="21890" y="7493"/>
                </a:lnTo>
                <a:lnTo>
                  <a:pt x="20054" y="7493"/>
                </a:lnTo>
                <a:lnTo>
                  <a:pt x="23561" y="3985"/>
                </a:lnTo>
                <a:lnTo>
                  <a:pt x="27234" y="7493"/>
                </a:lnTo>
                <a:lnTo>
                  <a:pt x="25398" y="7493"/>
                </a:lnTo>
                <a:lnTo>
                  <a:pt x="25398" y="12828"/>
                </a:lnTo>
                <a:cubicBezTo>
                  <a:pt x="25398" y="15596"/>
                  <a:pt x="22822" y="18155"/>
                  <a:pt x="20054" y="18155"/>
                </a:cubicBezTo>
                <a:lnTo>
                  <a:pt x="18391" y="18155"/>
                </a:lnTo>
                <a:cubicBezTo>
                  <a:pt x="15624" y="18155"/>
                  <a:pt x="13047" y="15596"/>
                  <a:pt x="13047" y="12828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одзаголовок 2" descr=""/>
          <p:cNvPicPr/>
          <p:nvPr/>
        </p:nvPicPr>
        <p:blipFill>
          <a:blip r:embed="rId1"/>
          <a:stretch/>
        </p:blipFill>
        <p:spPr>
          <a:xfrm>
            <a:off x="566640" y="1639800"/>
            <a:ext cx="8083800" cy="3645000"/>
          </a:xfrm>
          <a:prstGeom prst="rect">
            <a:avLst/>
          </a:prstGeom>
          <a:ln w="0">
            <a:noFill/>
          </a:ln>
        </p:spPr>
      </p:pic>
      <p:grpSp>
        <p:nvGrpSpPr>
          <p:cNvPr id="117" name="Заголовок 1"/>
          <p:cNvGrpSpPr/>
          <p:nvPr/>
        </p:nvGrpSpPr>
        <p:grpSpPr>
          <a:xfrm>
            <a:off x="725400" y="324000"/>
            <a:ext cx="7888320" cy="1108080"/>
            <a:chOff x="725400" y="324000"/>
            <a:chExt cx="7888320" cy="1108080"/>
          </a:xfrm>
        </p:grpSpPr>
        <p:pic>
          <p:nvPicPr>
            <p:cNvPr id="118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725400" y="324000"/>
              <a:ext cx="788832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85880" y="357120"/>
              <a:ext cx="77724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Сигналы светофора, дорожная разметк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Управляющая кнопка: возврат 6">
            <a:hlinkClick r:id="rId3" action="ppaction://hlinksldjump"/>
          </p:cNvPr>
          <p:cNvSpPr/>
          <p:nvPr/>
        </p:nvSpPr>
        <p:spPr>
          <a:xfrm>
            <a:off x="7858080" y="607212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7493"/>
                </a:moveTo>
                <a:lnTo>
                  <a:pt x="16555" y="7493"/>
                </a:lnTo>
                <a:lnTo>
                  <a:pt x="16555" y="12828"/>
                </a:lnTo>
                <a:cubicBezTo>
                  <a:pt x="16555" y="13751"/>
                  <a:pt x="17356" y="14482"/>
                  <a:pt x="18391" y="14482"/>
                </a:cubicBezTo>
                <a:lnTo>
                  <a:pt x="20054" y="14482"/>
                </a:lnTo>
                <a:cubicBezTo>
                  <a:pt x="21090" y="14482"/>
                  <a:pt x="21890" y="13751"/>
                  <a:pt x="21890" y="12828"/>
                </a:cubicBezTo>
                <a:lnTo>
                  <a:pt x="21890" y="7493"/>
                </a:lnTo>
                <a:lnTo>
                  <a:pt x="20054" y="7493"/>
                </a:lnTo>
                <a:lnTo>
                  <a:pt x="23561" y="3985"/>
                </a:lnTo>
                <a:lnTo>
                  <a:pt x="27234" y="7493"/>
                </a:lnTo>
                <a:lnTo>
                  <a:pt x="25398" y="7493"/>
                </a:lnTo>
                <a:lnTo>
                  <a:pt x="25398" y="12828"/>
                </a:lnTo>
                <a:cubicBezTo>
                  <a:pt x="25398" y="15596"/>
                  <a:pt x="22822" y="18155"/>
                  <a:pt x="20054" y="18155"/>
                </a:cubicBezTo>
                <a:lnTo>
                  <a:pt x="18391" y="18155"/>
                </a:lnTo>
                <a:cubicBezTo>
                  <a:pt x="15624" y="18155"/>
                  <a:pt x="13047" y="15596"/>
                  <a:pt x="13047" y="12828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одзаголовок 2" descr=""/>
          <p:cNvPicPr/>
          <p:nvPr/>
        </p:nvPicPr>
        <p:blipFill>
          <a:blip r:embed="rId1"/>
          <a:stretch/>
        </p:blipFill>
        <p:spPr>
          <a:xfrm>
            <a:off x="566640" y="1994040"/>
            <a:ext cx="8083800" cy="3651120"/>
          </a:xfrm>
          <a:prstGeom prst="rect">
            <a:avLst/>
          </a:prstGeom>
          <a:ln w="0">
            <a:noFill/>
          </a:ln>
        </p:spPr>
      </p:pic>
      <p:grpSp>
        <p:nvGrpSpPr>
          <p:cNvPr id="122" name="Заголовок 1"/>
          <p:cNvGrpSpPr/>
          <p:nvPr/>
        </p:nvGrpSpPr>
        <p:grpSpPr>
          <a:xfrm>
            <a:off x="725400" y="324000"/>
            <a:ext cx="7888320" cy="1108080"/>
            <a:chOff x="725400" y="324000"/>
            <a:chExt cx="7888320" cy="1108080"/>
          </a:xfrm>
        </p:grpSpPr>
        <p:pic>
          <p:nvPicPr>
            <p:cNvPr id="123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725400" y="324000"/>
              <a:ext cx="788832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85880" y="357120"/>
              <a:ext cx="77724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Сигналы светофора, дорожная разметк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Управляющая кнопка: возврат 5">
            <a:hlinkClick r:id="rId3" action="ppaction://hlinksldjump"/>
          </p:cNvPr>
          <p:cNvSpPr/>
          <p:nvPr/>
        </p:nvSpPr>
        <p:spPr>
          <a:xfrm>
            <a:off x="7858080" y="607212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7493"/>
                </a:moveTo>
                <a:lnTo>
                  <a:pt x="16555" y="7493"/>
                </a:lnTo>
                <a:lnTo>
                  <a:pt x="16555" y="12828"/>
                </a:lnTo>
                <a:cubicBezTo>
                  <a:pt x="16555" y="13751"/>
                  <a:pt x="17356" y="14482"/>
                  <a:pt x="18391" y="14482"/>
                </a:cubicBezTo>
                <a:lnTo>
                  <a:pt x="20054" y="14482"/>
                </a:lnTo>
                <a:cubicBezTo>
                  <a:pt x="21090" y="14482"/>
                  <a:pt x="21890" y="13751"/>
                  <a:pt x="21890" y="12828"/>
                </a:cubicBezTo>
                <a:lnTo>
                  <a:pt x="21890" y="7493"/>
                </a:lnTo>
                <a:lnTo>
                  <a:pt x="20054" y="7493"/>
                </a:lnTo>
                <a:lnTo>
                  <a:pt x="23561" y="3985"/>
                </a:lnTo>
                <a:lnTo>
                  <a:pt x="27234" y="7493"/>
                </a:lnTo>
                <a:lnTo>
                  <a:pt x="25398" y="7493"/>
                </a:lnTo>
                <a:lnTo>
                  <a:pt x="25398" y="12828"/>
                </a:lnTo>
                <a:cubicBezTo>
                  <a:pt x="25398" y="15596"/>
                  <a:pt x="22822" y="18155"/>
                  <a:pt x="20054" y="18155"/>
                </a:cubicBezTo>
                <a:lnTo>
                  <a:pt x="18391" y="18155"/>
                </a:lnTo>
                <a:cubicBezTo>
                  <a:pt x="15624" y="18155"/>
                  <a:pt x="13047" y="15596"/>
                  <a:pt x="13047" y="12828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Прямоугольник 1" descr=""/>
          <p:cNvPicPr/>
          <p:nvPr/>
        </p:nvPicPr>
        <p:blipFill>
          <a:blip r:embed="rId1"/>
          <a:stretch/>
        </p:blipFill>
        <p:spPr>
          <a:xfrm>
            <a:off x="304920" y="1920960"/>
            <a:ext cx="8096040" cy="2004840"/>
          </a:xfrm>
          <a:prstGeom prst="rect">
            <a:avLst/>
          </a:prstGeom>
          <a:ln w="0">
            <a:noFill/>
          </a:ln>
        </p:spPr>
      </p:pic>
      <p:grpSp>
        <p:nvGrpSpPr>
          <p:cNvPr id="127" name="Прямоугольник 2"/>
          <p:cNvGrpSpPr/>
          <p:nvPr/>
        </p:nvGrpSpPr>
        <p:grpSpPr>
          <a:xfrm>
            <a:off x="1517760" y="480960"/>
            <a:ext cx="6754680" cy="982800"/>
            <a:chOff x="1517760" y="480960"/>
            <a:chExt cx="6754680" cy="982800"/>
          </a:xfrm>
        </p:grpSpPr>
        <p:pic>
          <p:nvPicPr>
            <p:cNvPr id="128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517760" y="480960"/>
              <a:ext cx="675468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576440" y="571680"/>
              <a:ext cx="6638760" cy="8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Обязанности пассажиров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0" name="Управляющая кнопка: возврат 4">
            <a:hlinkClick r:id="rId3" action="ppaction://hlinksldjump"/>
          </p:cNvPr>
          <p:cNvSpPr/>
          <p:nvPr/>
        </p:nvSpPr>
        <p:spPr>
          <a:xfrm>
            <a:off x="7858080" y="607212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7493"/>
                </a:moveTo>
                <a:lnTo>
                  <a:pt x="16555" y="7493"/>
                </a:lnTo>
                <a:lnTo>
                  <a:pt x="16555" y="12828"/>
                </a:lnTo>
                <a:cubicBezTo>
                  <a:pt x="16555" y="13751"/>
                  <a:pt x="17356" y="14482"/>
                  <a:pt x="18391" y="14482"/>
                </a:cubicBezTo>
                <a:lnTo>
                  <a:pt x="20054" y="14482"/>
                </a:lnTo>
                <a:cubicBezTo>
                  <a:pt x="21090" y="14482"/>
                  <a:pt x="21890" y="13751"/>
                  <a:pt x="21890" y="12828"/>
                </a:cubicBezTo>
                <a:lnTo>
                  <a:pt x="21890" y="7493"/>
                </a:lnTo>
                <a:lnTo>
                  <a:pt x="20054" y="7493"/>
                </a:lnTo>
                <a:lnTo>
                  <a:pt x="23561" y="3985"/>
                </a:lnTo>
                <a:lnTo>
                  <a:pt x="27234" y="7493"/>
                </a:lnTo>
                <a:lnTo>
                  <a:pt x="25398" y="7493"/>
                </a:lnTo>
                <a:lnTo>
                  <a:pt x="25398" y="12828"/>
                </a:lnTo>
                <a:cubicBezTo>
                  <a:pt x="25398" y="15596"/>
                  <a:pt x="22822" y="18155"/>
                  <a:pt x="20054" y="18155"/>
                </a:cubicBezTo>
                <a:lnTo>
                  <a:pt x="18391" y="18155"/>
                </a:lnTo>
                <a:cubicBezTo>
                  <a:pt x="15624" y="18155"/>
                  <a:pt x="13047" y="15596"/>
                  <a:pt x="13047" y="12828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1" descr=""/>
          <p:cNvPicPr/>
          <p:nvPr/>
        </p:nvPicPr>
        <p:blipFill>
          <a:blip r:embed="rId1"/>
          <a:stretch/>
        </p:blipFill>
        <p:spPr>
          <a:xfrm>
            <a:off x="231840" y="2206800"/>
            <a:ext cx="7845480" cy="2865240"/>
          </a:xfrm>
          <a:prstGeom prst="rect">
            <a:avLst/>
          </a:prstGeom>
          <a:ln w="0">
            <a:noFill/>
          </a:ln>
        </p:spPr>
      </p:pic>
      <p:grpSp>
        <p:nvGrpSpPr>
          <p:cNvPr id="132" name="Прямоугольник 3"/>
          <p:cNvGrpSpPr/>
          <p:nvPr/>
        </p:nvGrpSpPr>
        <p:grpSpPr>
          <a:xfrm>
            <a:off x="1438200" y="341280"/>
            <a:ext cx="6755040" cy="981000"/>
            <a:chOff x="1438200" y="341280"/>
            <a:chExt cx="6755040" cy="981000"/>
          </a:xfrm>
        </p:grpSpPr>
        <p:pic>
          <p:nvPicPr>
            <p:cNvPr id="133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438200" y="341280"/>
              <a:ext cx="675504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500120" y="428760"/>
              <a:ext cx="6639120" cy="8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Обязанности пассажиров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" name="Управляющая кнопка: возврат 4">
            <a:hlinkClick r:id="rId3" action="ppaction://hlinksldjump"/>
          </p:cNvPr>
          <p:cNvSpPr/>
          <p:nvPr/>
        </p:nvSpPr>
        <p:spPr>
          <a:xfrm>
            <a:off x="7858080" y="607212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7493"/>
                </a:moveTo>
                <a:lnTo>
                  <a:pt x="16555" y="7493"/>
                </a:lnTo>
                <a:lnTo>
                  <a:pt x="16555" y="12828"/>
                </a:lnTo>
                <a:cubicBezTo>
                  <a:pt x="16555" y="13751"/>
                  <a:pt x="17356" y="14482"/>
                  <a:pt x="18391" y="14482"/>
                </a:cubicBezTo>
                <a:lnTo>
                  <a:pt x="20054" y="14482"/>
                </a:lnTo>
                <a:cubicBezTo>
                  <a:pt x="21090" y="14482"/>
                  <a:pt x="21890" y="13751"/>
                  <a:pt x="21890" y="12828"/>
                </a:cubicBezTo>
                <a:lnTo>
                  <a:pt x="21890" y="7493"/>
                </a:lnTo>
                <a:lnTo>
                  <a:pt x="20054" y="7493"/>
                </a:lnTo>
                <a:lnTo>
                  <a:pt x="23561" y="3985"/>
                </a:lnTo>
                <a:lnTo>
                  <a:pt x="27234" y="7493"/>
                </a:lnTo>
                <a:lnTo>
                  <a:pt x="25398" y="7493"/>
                </a:lnTo>
                <a:lnTo>
                  <a:pt x="25398" y="12828"/>
                </a:lnTo>
                <a:cubicBezTo>
                  <a:pt x="25398" y="15596"/>
                  <a:pt x="22822" y="18155"/>
                  <a:pt x="20054" y="18155"/>
                </a:cubicBezTo>
                <a:lnTo>
                  <a:pt x="18391" y="18155"/>
                </a:lnTo>
                <a:cubicBezTo>
                  <a:pt x="15624" y="18155"/>
                  <a:pt x="13047" y="15596"/>
                  <a:pt x="13047" y="12828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Прямоугольник 1" descr=""/>
          <p:cNvPicPr/>
          <p:nvPr/>
        </p:nvPicPr>
        <p:blipFill>
          <a:blip r:embed="rId1"/>
          <a:stretch/>
        </p:blipFill>
        <p:spPr>
          <a:xfrm>
            <a:off x="590400" y="1706400"/>
            <a:ext cx="8193240" cy="2225880"/>
          </a:xfrm>
          <a:prstGeom prst="rect">
            <a:avLst/>
          </a:prstGeom>
          <a:ln w="0">
            <a:noFill/>
          </a:ln>
        </p:spPr>
      </p:pic>
      <p:grpSp>
        <p:nvGrpSpPr>
          <p:cNvPr id="137" name="Прямоугольник 2"/>
          <p:cNvGrpSpPr/>
          <p:nvPr/>
        </p:nvGrpSpPr>
        <p:grpSpPr>
          <a:xfrm>
            <a:off x="1584360" y="341280"/>
            <a:ext cx="6754680" cy="981000"/>
            <a:chOff x="1584360" y="341280"/>
            <a:chExt cx="6754680" cy="981000"/>
          </a:xfrm>
        </p:grpSpPr>
        <p:pic>
          <p:nvPicPr>
            <p:cNvPr id="138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584360" y="341280"/>
              <a:ext cx="675468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643040" y="428760"/>
              <a:ext cx="6639120" cy="8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Обязанности пассажиров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Управляющая кнопка: возврат 3">
            <a:hlinkClick r:id="rId3" action="ppaction://hlinksldjump"/>
          </p:cNvPr>
          <p:cNvSpPr/>
          <p:nvPr/>
        </p:nvSpPr>
        <p:spPr>
          <a:xfrm>
            <a:off x="7858080" y="6072120"/>
            <a:ext cx="928800" cy="500040"/>
          </a:xfrm>
          <a:custGeom>
            <a:avLst/>
            <a:gdLst>
              <a:gd name="textAreaLeft" fmla="*/ 32400 w 928800"/>
              <a:gd name="textAreaRight" fmla="*/ 896400 w 92880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0108" h="21600">
                <a:moveTo>
                  <a:pt x="0" y="0"/>
                </a:moveTo>
                <a:lnTo>
                  <a:pt x="40108" y="0"/>
                </a:lnTo>
                <a:lnTo>
                  <a:pt x="40108" y="21600"/>
                </a:lnTo>
                <a:lnTo>
                  <a:pt x="0" y="21600"/>
                </a:lnTo>
                <a:close/>
              </a:path>
              <a:path fill="lightenLess" w="40108" h="21600">
                <a:moveTo>
                  <a:pt x="0" y="0"/>
                </a:moveTo>
                <a:lnTo>
                  <a:pt x="40108" y="0"/>
                </a:lnTo>
                <a:lnTo>
                  <a:pt x="38708" y="1400"/>
                </a:lnTo>
                <a:lnTo>
                  <a:pt x="1400" y="1400"/>
                </a:lnTo>
                <a:close/>
              </a:path>
              <a:path fill="darken" w="40108" h="21600">
                <a:moveTo>
                  <a:pt x="40108" y="0"/>
                </a:moveTo>
                <a:lnTo>
                  <a:pt x="40108" y="21600"/>
                </a:lnTo>
                <a:lnTo>
                  <a:pt x="38708" y="20200"/>
                </a:lnTo>
                <a:lnTo>
                  <a:pt x="38708" y="1400"/>
                </a:lnTo>
                <a:close/>
              </a:path>
              <a:path fill="darkenLess" w="40108" h="21600">
                <a:moveTo>
                  <a:pt x="401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708" y="20200"/>
                </a:lnTo>
                <a:close/>
              </a:path>
              <a:path fill="lighten" w="401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108" h="21600">
                <a:moveTo>
                  <a:pt x="13047" y="7493"/>
                </a:moveTo>
                <a:lnTo>
                  <a:pt x="16555" y="7493"/>
                </a:lnTo>
                <a:lnTo>
                  <a:pt x="16555" y="12828"/>
                </a:lnTo>
                <a:cubicBezTo>
                  <a:pt x="16555" y="13751"/>
                  <a:pt x="17356" y="14482"/>
                  <a:pt x="18391" y="14482"/>
                </a:cubicBezTo>
                <a:lnTo>
                  <a:pt x="20054" y="14482"/>
                </a:lnTo>
                <a:cubicBezTo>
                  <a:pt x="21090" y="14482"/>
                  <a:pt x="21890" y="13751"/>
                  <a:pt x="21890" y="12828"/>
                </a:cubicBezTo>
                <a:lnTo>
                  <a:pt x="21890" y="7493"/>
                </a:lnTo>
                <a:lnTo>
                  <a:pt x="20054" y="7493"/>
                </a:lnTo>
                <a:lnTo>
                  <a:pt x="23561" y="3985"/>
                </a:lnTo>
                <a:lnTo>
                  <a:pt x="27234" y="7493"/>
                </a:lnTo>
                <a:lnTo>
                  <a:pt x="25398" y="7493"/>
                </a:lnTo>
                <a:lnTo>
                  <a:pt x="25398" y="12828"/>
                </a:lnTo>
                <a:cubicBezTo>
                  <a:pt x="25398" y="15596"/>
                  <a:pt x="22822" y="18155"/>
                  <a:pt x="20054" y="18155"/>
                </a:cubicBezTo>
                <a:lnTo>
                  <a:pt x="18391" y="18155"/>
                </a:lnTo>
                <a:cubicBezTo>
                  <a:pt x="15624" y="18155"/>
                  <a:pt x="13047" y="15596"/>
                  <a:pt x="13047" y="12828"/>
                </a:cubicBezTo>
                <a:close/>
              </a:path>
            </a:pathLst>
          </a:cu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16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06:55:47Z</dcterms:created>
  <dc:creator>student</dc:creator>
  <dc:description/>
  <dc:language>en-US</dc:language>
  <cp:lastModifiedBy>Лира</cp:lastModifiedBy>
  <dcterms:modified xsi:type="dcterms:W3CDTF">2010-03-24T23:37:09Z</dcterms:modified>
  <cp:revision>12</cp:revision>
  <dc:subject/>
  <dc:title>Слайд 1</dc:title>
</cp:coreProperties>
</file>