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wmf" ContentType="image/x-wmf"/>
  <Override PartName="/ppt/media/image14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79976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828-D74F-4EB3-A98B-52EE2CEB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3FE-D5C1-45D5-8D9D-57B7972B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E91-A079-4005-ADC2-92FF8307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76364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370760"/>
            <a:ext cx="31302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5CE-D16B-4A23-97E6-6A5846873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E9D-95AA-4EDA-9E8F-D51C92A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379-9579-496E-AFAB-90251875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40BD-49C0-4847-B3D6-5984764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72EE-DFAC-4EC4-B696-9871025C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03120"/>
            <a:ext cx="9721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F5F-E8AB-4986-BCFF-EFED6383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1BA-6D2E-4664-9340-E7A2929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37076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F46-67D0-48E1-A013-3F6F779F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763640"/>
            <a:ext cx="474408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370760"/>
            <a:ext cx="9721800" cy="2380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265-E532-4D4C-A0B2-DB2B479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03120"/>
            <a:ext cx="9721800" cy="12607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763640"/>
            <a:ext cx="9721800" cy="49910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51040" indent="-3272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31112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83528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359080" indent="-2620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7008840"/>
            <a:ext cx="25210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7008840"/>
            <a:ext cx="341928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7008840"/>
            <a:ext cx="2520720" cy="40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4701B15F-54D1-49A2-91A9-87F490215AB3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511280" y="1500120"/>
            <a:ext cx="77659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-84240" y="0"/>
            <a:ext cx="109141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4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114480" y="0"/>
            <a:ext cx="10501200" cy="74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-15840"/>
            <a:ext cx="10801440" cy="759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2" descr="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3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7-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7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7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40"/>
          <p:cNvSpPr/>
          <p:nvPr/>
        </p:nvSpPr>
        <p:spPr>
          <a:xfrm>
            <a:off x="3971880" y="17794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7" descr="E:\ЮИД\znaki\знаки7.gif"/>
          <p:cNvPicPr/>
          <p:nvPr/>
        </p:nvPicPr>
        <p:blipFill>
          <a:blip r:embed="rId1"/>
          <a:stretch/>
        </p:blipFill>
        <p:spPr>
          <a:xfrm>
            <a:off x="328680" y="493560"/>
            <a:ext cx="6281640" cy="650268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79" descr=""/>
          <p:cNvPicPr/>
          <p:nvPr/>
        </p:nvPicPr>
        <p:blipFill>
          <a:blip r:embed="rId2"/>
          <a:stretch/>
        </p:blipFill>
        <p:spPr>
          <a:xfrm>
            <a:off x="4943520" y="658800"/>
            <a:ext cx="638964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98400" y="938160"/>
            <a:ext cx="949356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йдя на улицу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долже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жливо передвигать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 тротуару или обочин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4" descr=""/>
          <p:cNvPicPr/>
          <p:nvPr/>
        </p:nvPicPr>
        <p:blipFill>
          <a:blip r:embed="rId1"/>
          <a:stretch/>
        </p:blipFill>
        <p:spPr>
          <a:xfrm>
            <a:off x="4829040" y="4495680"/>
            <a:ext cx="135756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257480" y="779400"/>
            <a:ext cx="864360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ить проезжую часть дороги юный пешеход  должен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а разрешающий (зелёный) сигнал светофор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ешеходному пер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перекрёстках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ject 1" descr=""/>
          <p:cNvPicPr/>
          <p:nvPr/>
        </p:nvPicPr>
        <p:blipFill>
          <a:blip r:embed="rId1"/>
          <a:stretch/>
        </p:blipFill>
        <p:spPr>
          <a:xfrm>
            <a:off x="4971960" y="5259240"/>
            <a:ext cx="112392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1-1.jpg"/>
          <p:cNvPicPr/>
          <p:nvPr/>
        </p:nvPicPr>
        <p:blipFill>
          <a:blip r:embed="rId1"/>
          <a:stretch/>
        </p:blipFill>
        <p:spPr>
          <a:xfrm>
            <a:off x="-1440" y="136440"/>
            <a:ext cx="10688400" cy="72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1042920" y="636480"/>
            <a:ext cx="864396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не должен выходить или выбегать на проезжую час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стоящего транспорта, деревьев, не осмотрев предварительно улиц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1" descr=""/>
          <p:cNvPicPr/>
          <p:nvPr/>
        </p:nvPicPr>
        <p:blipFill>
          <a:blip r:embed="rId1"/>
          <a:stretch/>
        </p:blipFill>
        <p:spPr>
          <a:xfrm>
            <a:off x="4829040" y="5180040"/>
            <a:ext cx="1214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493280" y="513000"/>
            <a:ext cx="7844760" cy="37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ому пешеход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бегать проезжую ча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близко движущимс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о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2" descr=""/>
          <p:cNvPicPr/>
          <p:nvPr/>
        </p:nvPicPr>
        <p:blipFill>
          <a:blip r:embed="rId1"/>
          <a:stretch/>
        </p:blipFill>
        <p:spPr>
          <a:xfrm>
            <a:off x="4757760" y="4416480"/>
            <a:ext cx="164304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881360" y="938160"/>
            <a:ext cx="7191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ный пешеход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да должен соблюда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прави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ого движени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4614840" y="4210200"/>
            <a:ext cx="1714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1" descr=""/>
          <p:cNvPicPr/>
          <p:nvPr/>
        </p:nvPicPr>
        <p:blipFill>
          <a:blip r:embed="rId1"/>
          <a:stretch/>
        </p:blipFill>
        <p:spPr>
          <a:xfrm>
            <a:off x="9043920" y="4836960"/>
            <a:ext cx="1500120" cy="24829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Object 3" descr=""/>
          <p:cNvPicPr/>
          <p:nvPr/>
        </p:nvPicPr>
        <p:blipFill>
          <a:blip r:embed="rId2"/>
          <a:stretch/>
        </p:blipFill>
        <p:spPr>
          <a:xfrm>
            <a:off x="8972640" y="351000"/>
            <a:ext cx="1552320" cy="25700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ject 5" descr=""/>
          <p:cNvPicPr/>
          <p:nvPr/>
        </p:nvPicPr>
        <p:blipFill>
          <a:blip r:embed="rId3"/>
          <a:stretch/>
        </p:blipFill>
        <p:spPr>
          <a:xfrm>
            <a:off x="257040" y="4924440"/>
            <a:ext cx="1501920" cy="24843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0" y="-208080"/>
            <a:ext cx="18432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ject 7" descr=""/>
          <p:cNvPicPr/>
          <p:nvPr/>
        </p:nvPicPr>
        <p:blipFill>
          <a:blip r:embed="rId4"/>
          <a:stretch/>
        </p:blipFill>
        <p:spPr>
          <a:xfrm>
            <a:off x="185760" y="208080"/>
            <a:ext cx="1643040" cy="272088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0" descr=""/>
          <p:cNvPicPr/>
          <p:nvPr/>
        </p:nvPicPr>
        <p:blipFill>
          <a:blip r:embed="rId5"/>
          <a:stretch/>
        </p:blipFill>
        <p:spPr>
          <a:xfrm>
            <a:off x="1871640" y="1994040"/>
            <a:ext cx="703440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1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2600" y="0"/>
            <a:ext cx="10826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1-3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8014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1-4.jpg"/>
          <p:cNvPicPr/>
          <p:nvPr/>
        </p:nvPicPr>
        <p:blipFill>
          <a:blip r:embed="rId1"/>
          <a:stretch/>
        </p:blipFill>
        <p:spPr>
          <a:xfrm>
            <a:off x="28440" y="0"/>
            <a:ext cx="1108872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-5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0"/>
            <a:ext cx="1079964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1-6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-100080" y="0"/>
            <a:ext cx="1079820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2-1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2-2.JPG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0" y="14400"/>
            <a:ext cx="10801440" cy="75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6:22:23Z</dcterms:created>
  <dc:creator>Admin</dc:creator>
  <dc:description/>
  <dc:language>en-US</dc:language>
  <cp:lastModifiedBy>user</cp:lastModifiedBy>
  <dcterms:modified xsi:type="dcterms:W3CDTF">2025-01-09T18:16:32Z</dcterms:modified>
  <cp:revision>13</cp:revision>
  <dc:subject/>
  <dc:title>Слайд 0</dc:title>
</cp:coreProperties>
</file>