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8.png" ContentType="image/png"/>
  <Override PartName="/ppt/media/image14.jpeg" ContentType="image/jpeg"/>
  <Override PartName="/ppt/media/image23.png" ContentType="image/pn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2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5E7D-8501-48BD-8A28-6459409EF4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16F4-5897-46D2-BCA8-53522F4166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6ECA-DB74-41CC-A0E2-DB376ED212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муниципалитетов в этом проек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529C-A9D5-46DF-93FF-98740E61F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6A2C-2627-45AE-96B5-379162D7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9E3F-60D3-406E-950E-D0D317C23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94D3-05B6-4FF5-8D5F-5912509DD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2126-666D-4F28-8310-4812BA6A7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72A9-F60D-4BE9-9F06-6857DDC9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4286-63C3-4A11-A40C-B0D89624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7A98-A095-4C80-B844-486F9747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4108-3E46-4A51-A9C7-D973C703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0AE0-4C42-40F4-9C73-64323731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782A-32FB-47B4-A771-4C338679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BA49-04B8-46AE-BD59-62C8E061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8956-D9AE-475C-8433-968D0F36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AE34-942E-473D-BF5E-7A258AE9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0DD6-90D6-40B8-8BF4-998F44C2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882F-BE61-4044-BFDB-DEAD22AE7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C93F-85EE-46B2-ABC4-7E19BD63A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F72A-B254-410C-9892-6E20013D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BDD0-EE9C-4C11-A8D9-FA7DEADD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01E4-3D4A-476A-B9DF-0212226E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D9A3-1BA3-4627-89DA-478CAFDC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2DF9-CCD1-43A5-869C-366B0FE8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EB52-1980-43CB-A213-99F91E67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3F19-71F5-494A-9580-C2CB5390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FCD5-7CDD-497A-8D40-6B7FF713BD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0A91-C747-4A65-AF8C-EE303B891E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ura.ru/images/news/041/681/041681/200x128_Medvedev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Нижегородский Кремль"/>
          <p:cNvPicPr/>
          <p:nvPr/>
        </p:nvPicPr>
        <p:blipFill>
          <a:blip r:embed="rId1"/>
          <a:stretch/>
        </p:blipFill>
        <p:spPr>
          <a:xfrm>
            <a:off x="1071720" y="3643200"/>
            <a:ext cx="4000320" cy="3214800"/>
          </a:xfrm>
          <a:prstGeom prst="rect">
            <a:avLst/>
          </a:prstGeom>
          <a:ln w="0">
            <a:noFill/>
          </a:ln>
        </p:spPr>
      </p:pic>
      <p:sp>
        <p:nvSpPr>
          <p:cNvPr id="90" name="Заголовок 1"/>
          <p:cNvSpPr/>
          <p:nvPr/>
        </p:nvSpPr>
        <p:spPr>
          <a:xfrm>
            <a:off x="285840" y="500040"/>
            <a:ext cx="81439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партамент образования, культуры 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молодежной политики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Белгородской области</a:t>
            </a:r>
            <a:br>
              <a:rPr sz="3200"/>
            </a:br>
            <a:br>
              <a:rPr sz="4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одзаголовок 2"/>
          <p:cNvSpPr/>
          <p:nvPr/>
        </p:nvSpPr>
        <p:spPr>
          <a:xfrm>
            <a:off x="1785960" y="1428840"/>
            <a:ext cx="735804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ВВЕДЕНИЕ УЧЕБНОГО КУР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ОСНОВЫ РЕЛИГИОЗНЫХ КУЛЬТУР И СВЕТСКОЙ ЭТИКИ В УЧЕБНЫЕ ПЛАНЫ ОБЩЕОБРАЗОВАТЕЛЬ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УЧРЕЖДЕ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КРАСНОДАРСК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499760" y="428400"/>
            <a:ext cx="735804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дна из основных задач образования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ф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ормирование духовно-нравственной лич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2071800" y="2273400"/>
            <a:ext cx="6143400" cy="4217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DB9C-AA49-4E15-95DE-7893D3FE42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Из речи Президента РФ 21 июля 2009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142640" y="4357440"/>
            <a:ext cx="741060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«Напомню норму Конституции Росси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В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татье 14 </a:t>
            </a: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говорится о том, что </a:t>
            </a: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религиозные  объединения отделены  от  государства и равны перед законом</a:t>
            </a: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. </a:t>
            </a:r>
            <a:br>
              <a:rPr sz="1800"/>
            </a:b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При этом каждому  гарантируетс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вобода совести, свобода вероисповедания, включая право исповедовать любую религию или не исповедовать никакую </a:t>
            </a: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– это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татья 2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Я думаю, что мы должны подчеркнуть и безусловную важность соблюдения этих фундаментальных конституционных положений </a:t>
            </a: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на каждом этапе реализации</a:t>
            </a: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согласованных планов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714680" y="571680"/>
            <a:ext cx="5786280" cy="3522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785840" y="500040"/>
            <a:ext cx="3900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alibri"/>
              </a:rPr>
              <a:t>Кроме того,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аконодательство Российской Федерации следует </a:t>
            </a:r>
            <a:r>
              <a:rPr b="1" lang="ru-RU" sz="2400" spc="-1" strike="noStrike">
                <a:solidFill>
                  <a:srgbClr val="663300"/>
                </a:solidFill>
                <a:latin typeface="Calibri"/>
              </a:rPr>
              <a:t>в цело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нормам и принципам международного права, утверждающи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право учащихся на религиозное образо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Calibri"/>
              </a:rPr>
              <a:t>(п. 4 ст. 5 Федерального закона "О свободе совести и религиозных объединениях"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4381560" cy="6143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071360" y="428760"/>
            <a:ext cx="76150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В соответствии с действующим законодательством Минобразования России издало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приказ от 1 июля 2003 г. N 2833 "О предоставлении государственными и муниципальными учреждениями религиозным организациям возможности обучать детей религии вне рамок образовательных программ" </a:t>
            </a: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(зарегистрирован в Минюсте России 5 августа 2003 г. N 4955)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в соответствии с которым </a:t>
            </a:r>
            <a:r>
              <a:rPr b="1" lang="ru-RU" sz="1800" spc="-1" strike="noStrike" u="sng">
                <a:solidFill>
                  <a:srgbClr val="663300"/>
                </a:solidFill>
                <a:uFillTx/>
                <a:latin typeface="Calibri"/>
              </a:rPr>
              <a:t>администрация образовательных учреждений </a:t>
            </a: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 по согласованию с соответствующим органом местного самоуправлен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63300"/>
                </a:solidFill>
                <a:uFillTx/>
                <a:latin typeface="Calibri"/>
              </a:rPr>
              <a:t>может предоставлять религиозной организаци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возможность обучать детей религии на территории своего образовательного учреждения только вне рамок образовательной программы, по просьбе родителей или лиц, их заменяющих, с согласия де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428760" y="3786120"/>
            <a:ext cx="3585960" cy="2716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4" name="Picture 3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5000760" y="4000680"/>
            <a:ext cx="3828960" cy="2557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0000"/>
                </a:solidFill>
                <a:latin typeface="Calibri"/>
              </a:rPr>
              <a:t>Конституция </a:t>
            </a:r>
            <a:br>
              <a:rPr sz="3600"/>
            </a:br>
            <a:r>
              <a:rPr b="0" i="1" lang="ru-RU" sz="3600" spc="-1" strike="noStrike">
                <a:solidFill>
                  <a:srgbClr val="990000"/>
                </a:solidFill>
                <a:latin typeface="Calibri"/>
              </a:rPr>
              <a:t>Российской Федерац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56800" y="1142640"/>
            <a:ext cx="828684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00"/>
                </a:solidFill>
                <a:latin typeface="Calibri"/>
              </a:rPr>
              <a:t>Ст. 14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Российская Федерация - </a:t>
            </a:r>
            <a:r>
              <a:rPr b="1" lang="ru-RU" sz="2200" spc="-1" strike="noStrike">
                <a:solidFill>
                  <a:srgbClr val="660033"/>
                </a:solidFill>
                <a:latin typeface="Calibri"/>
              </a:rPr>
              <a:t>светское государство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Никакая религия не может устанавливаться в качестве государственной или обязательной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Религиозные объединения отделены от государства и равны перед законо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2000160" y="2697120"/>
            <a:ext cx="5214960" cy="3911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0000"/>
                </a:solidFill>
                <a:latin typeface="Calibri"/>
              </a:rPr>
              <a:t>Конституция </a:t>
            </a:r>
            <a:br>
              <a:rPr sz="3600"/>
            </a:br>
            <a:r>
              <a:rPr b="0" i="1" lang="ru-RU" sz="3600" spc="-1" strike="noStrike">
                <a:solidFill>
                  <a:srgbClr val="990000"/>
                </a:solidFill>
                <a:latin typeface="Calibri"/>
              </a:rPr>
              <a:t>Российской Федерац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00080" y="1213920"/>
            <a:ext cx="7786800" cy="26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Calibri"/>
              </a:rPr>
              <a:t>Ст. 19.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Равенство прав и свобод человека и гражданина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независимо о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пола, расы, национальности, языка, происхождения, имущественного и должностного положения, места жительства, 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отношения к религии,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убеждений, принадлежности к общественным объединениям, а также других обстоятельст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Запрещаются любые формы ограничения прав граждан по признакам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социальной, расовой, национальной, языковой или 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религиозной принадлежности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2500200" y="3095640"/>
            <a:ext cx="5048280" cy="3362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0000"/>
                </a:solidFill>
                <a:latin typeface="Calibri"/>
              </a:rPr>
              <a:t>Конституция </a:t>
            </a:r>
            <a:br>
              <a:rPr sz="3600"/>
            </a:br>
            <a:r>
              <a:rPr b="0" i="1" lang="ru-RU" sz="3600" spc="-1" strike="noStrike">
                <a:solidFill>
                  <a:srgbClr val="990000"/>
                </a:solidFill>
                <a:latin typeface="Calibri"/>
              </a:rPr>
              <a:t>Российской Федерац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143680" y="1213920"/>
            <a:ext cx="3714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Calibri"/>
              </a:rPr>
              <a:t>Ст. 28.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Каждому гарантируется 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свобода совести, свобода вероисповедания, включая право исповедовать индивидуально или совместно с другими любую религию или не исповедовать никакой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свободно выбирать, иметь и распространять религиозные и иные убеждения и действовать в соответствии с ни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Calibri"/>
              </a:rPr>
              <a:t>Ст. 29.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Не допускается пропаганда или агитация, возбуждающа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социальную, расовую, национальную или 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религиозную ненависть и вражду.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Запрещается пропаганда социального, расового, национального, религиозного или языкового превосходст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Рисунок 3" descr="гн.jpg"/>
          <p:cNvPicPr/>
          <p:nvPr/>
        </p:nvPicPr>
        <p:blipFill>
          <a:blip r:embed="rId1"/>
          <a:stretch/>
        </p:blipFill>
        <p:spPr>
          <a:xfrm>
            <a:off x="0" y="1285920"/>
            <a:ext cx="4849920" cy="4959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7440" cy="10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3600" spc="-1" strike="noStrike">
                <a:solidFill>
                  <a:srgbClr val="990000"/>
                </a:solidFill>
                <a:latin typeface="Calibri"/>
              </a:rPr>
              <a:t>Закон Российской Федерации </a:t>
            </a:r>
            <a:br>
              <a:rPr sz="3600"/>
            </a:br>
            <a:r>
              <a:rPr b="0" i="1" lang="ru-RU" sz="3600" spc="-1" strike="noStrike">
                <a:solidFill>
                  <a:srgbClr val="990000"/>
                </a:solidFill>
                <a:latin typeface="Calibri"/>
              </a:rPr>
              <a:t>«Об образовании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71360" y="1499760"/>
            <a:ext cx="745956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Статья 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Светский характер образовани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в государственных и муниципальных образовательных учреждени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Статья 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Возможность получени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гражданами Российской Федерации </a:t>
            </a: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образования независимо от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пола, расы, национальности, языка, происхождения, места жительства, </a:t>
            </a: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отношения к религии,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убеждений, принадлежности к общественным организациям (объединениям), возраста, состояния здоровья, социального, имущественного или должностного положения, наличия судим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Статья 14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держание образования должно содействовать взаимопониманию и сотрудничеству между людьми, народами независимо от расовой, национальной, этнической, религиозной и социальной принадлежности, учитывать разнообразие мировоззренческих подходов, способствовать реализации права обучающихся на свободный выбор мнений и убежд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83581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00"/>
                </a:solidFill>
                <a:latin typeface="Calibri"/>
              </a:rPr>
              <a:t>Федеральный закон </a:t>
            </a:r>
            <a:br>
              <a:rPr sz="2800"/>
            </a:br>
            <a:r>
              <a:rPr b="0" i="1" lang="ru-RU" sz="2800" spc="-1" strike="noStrike">
                <a:solidFill>
                  <a:srgbClr val="990000"/>
                </a:solidFill>
                <a:latin typeface="Calibri"/>
              </a:rPr>
              <a:t>«О свободе совести и о религиозных объединениях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142880" y="1071720"/>
            <a:ext cx="438804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Calibri"/>
              </a:rPr>
              <a:t>Статья 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прещается вовлечение малолетних в религиозные объединения, а также обучение малолетних религии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вопреки их воле и без согласия их родителей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Calibri"/>
              </a:rPr>
              <a:t>Статья 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. Каждый имеет право на получение религиозного образовани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по своему выбору индивидуально или совместно с други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 Воспитание и образование детей осуществляется родителями … с учетом права ребенка на свободу совести и свободу вероисповед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. По просьбе родителей, или лиц, их заменяющих, с согласия детей, обучающихся в государственных и муниципальных образовательных учреждениях, администрация … по согласованию с соответствующим органом местного самоуправления предоставляет религиозным организациям возможность обучать детей религ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не рамок образовательной програ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м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428760" y="1571760"/>
            <a:ext cx="3514680" cy="4929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500040" y="357120"/>
            <a:ext cx="46436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руч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резид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143000" y="1428480"/>
            <a:ext cx="75722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Прошу обеспечить решение 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организационных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1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и финансовых </a:t>
            </a:r>
            <a:br>
              <a:rPr sz="2200"/>
            </a:b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вопросов, касающихся 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введения в 2010 году в 19-ти 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субъектах Российской Федерации</a:t>
            </a: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, </a:t>
            </a:r>
            <a:br>
              <a:rPr sz="2200"/>
            </a:b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а с 2012 года во всех субъектах Российской Федерации в </a:t>
            </a: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общеобразовательных учреждениях новых предметов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80000"/>
              </a:lnSpc>
              <a:spcBef>
                <a:spcPts val="550"/>
              </a:spcBef>
              <a:buClr>
                <a:srgbClr val="66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основы православной культуры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80000"/>
              </a:lnSpc>
              <a:spcBef>
                <a:spcPts val="550"/>
              </a:spcBef>
              <a:buClr>
                <a:srgbClr val="66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основы исламской культуры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80000"/>
              </a:lnSpc>
              <a:spcBef>
                <a:spcPts val="550"/>
              </a:spcBef>
              <a:buClr>
                <a:srgbClr val="66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основы буддийской культуры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80000"/>
              </a:lnSpc>
              <a:spcBef>
                <a:spcPts val="550"/>
              </a:spcBef>
              <a:buClr>
                <a:srgbClr val="66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основы иудейской культуры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80000"/>
              </a:lnSpc>
              <a:spcBef>
                <a:spcPts val="550"/>
              </a:spcBef>
              <a:buClr>
                <a:srgbClr val="66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основы мировых религиозных культур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80000"/>
              </a:lnSpc>
              <a:spcBef>
                <a:spcPts val="550"/>
              </a:spcBef>
              <a:buClr>
                <a:srgbClr val="66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и основы светской этики 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для изучения учащимися </a:t>
            </a:r>
            <a:r>
              <a:rPr b="1" lang="ru-RU" sz="2200" spc="-1" strike="noStrike" u="sng">
                <a:solidFill>
                  <a:srgbClr val="c00000"/>
                </a:solidFill>
                <a:uFillTx/>
                <a:latin typeface="Calibri"/>
              </a:rPr>
              <a:t>по их выбору</a:t>
            </a: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 или по выбору их родителей (законных представителей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4" descr="200x128_Medvede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2040" y="285840"/>
            <a:ext cx="3795840" cy="242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9720" y="499680"/>
            <a:ext cx="4429080" cy="43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Нормативно-правовое обеспечение реализации государственной политики в области духовно-нравственного воспит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3" descr="b78e8fe5aca7.png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3429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2313-65D3-4345-856F-B047554C73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Из речи Президента РФ 21 июля 2009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71360" y="856800"/>
            <a:ext cx="778644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3300"/>
                </a:solidFill>
                <a:latin typeface="Calibri"/>
              </a:rPr>
              <a:t>«…</a:t>
            </a: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все эти вопросы </a:t>
            </a: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будут погружены в одну программу</a:t>
            </a: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соответственно, это будут </a:t>
            </a: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одни и те же пособия по изучению</a:t>
            </a: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Таким образом, мы охватим всех, кто имеет разные представления о том, что необходимо </a:t>
            </a:r>
            <a:br>
              <a:rPr sz="2800"/>
            </a:b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для обучения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ообразуясь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 представлениями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амих учеников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их родителей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4214880" y="3408480"/>
            <a:ext cx="4929120" cy="3449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DE88-437B-40DA-9D18-AFB5CF75CF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Из речи Президента РФ 21 июля 2009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000080" y="1428840"/>
            <a:ext cx="768672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Calibri"/>
              </a:rPr>
              <a:t>«Ученики и их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Calibri"/>
              </a:rPr>
              <a:t>родители </a:t>
            </a:r>
            <a:br>
              <a:rPr sz="2600"/>
            </a:br>
            <a:r>
              <a:rPr b="1" lang="ru-RU" sz="2600" spc="-1" strike="noStrike">
                <a:solidFill>
                  <a:srgbClr val="663300"/>
                </a:solidFill>
                <a:latin typeface="Calibri"/>
              </a:rPr>
              <a:t>должны будут </a:t>
            </a:r>
            <a:br>
              <a:rPr sz="2600"/>
            </a:br>
            <a:r>
              <a:rPr b="1" lang="ru-RU" sz="2600" spc="-1" strike="noStrike">
                <a:solidFill>
                  <a:srgbClr val="ff3300"/>
                </a:solidFill>
                <a:latin typeface="Calibri"/>
              </a:rPr>
              <a:t>самостоятельно </a:t>
            </a:r>
            <a:br>
              <a:rPr sz="2600"/>
            </a:br>
            <a:r>
              <a:rPr b="1" lang="ru-RU" sz="2600" spc="-1" strike="noStrike">
                <a:solidFill>
                  <a:srgbClr val="ff3300"/>
                </a:solidFill>
                <a:latin typeface="Calibri"/>
              </a:rPr>
              <a:t>выбрать</a:t>
            </a:r>
            <a:r>
              <a:rPr b="1" lang="ru-RU" sz="2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663300"/>
                </a:solidFill>
                <a:latin typeface="Calibri"/>
              </a:rPr>
              <a:t>предмет </a:t>
            </a:r>
            <a:br>
              <a:rPr sz="2600"/>
            </a:br>
            <a:r>
              <a:rPr b="1" lang="ru-RU" sz="2600" spc="-1" strike="noStrike">
                <a:solidFill>
                  <a:srgbClr val="663300"/>
                </a:solidFill>
                <a:latin typeface="Calibri"/>
              </a:rPr>
              <a:t>обуч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Calibri"/>
              </a:rPr>
              <a:t>Выбор учеников и их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Calibri"/>
              </a:rPr>
              <a:t>родителей, конечно, </a:t>
            </a:r>
            <a:br>
              <a:rPr sz="2600"/>
            </a:br>
            <a:r>
              <a:rPr b="1" lang="ru-RU" sz="2600" spc="-1" strike="noStrike">
                <a:solidFill>
                  <a:srgbClr val="663300"/>
                </a:solidFill>
                <a:latin typeface="Calibri"/>
              </a:rPr>
              <a:t>должен быть </a:t>
            </a:r>
            <a:r>
              <a:rPr b="1" lang="ru-RU" sz="2600" spc="-1" strike="noStrike">
                <a:solidFill>
                  <a:srgbClr val="ff3300"/>
                </a:solidFill>
                <a:latin typeface="Calibri"/>
              </a:rPr>
              <a:t>абсолютно добровольны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663300"/>
                </a:solidFill>
                <a:latin typeface="Calibri"/>
              </a:rPr>
              <a:t>– </a:t>
            </a:r>
            <a:r>
              <a:rPr b="1" lang="ru-RU" sz="2600" spc="-1" strike="noStrike">
                <a:solidFill>
                  <a:srgbClr val="663300"/>
                </a:solidFill>
                <a:latin typeface="Calibri"/>
              </a:rPr>
              <a:t>это важнейшее дело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Calibri"/>
              </a:rPr>
              <a:t>Любое принуждение по этому вопросу не только носит незаконный характер, но и будет абсолютно контрпродуктивным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4286160" y="642960"/>
            <a:ext cx="4464000" cy="312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F20C-A2CF-40E1-B205-786C7DD7EF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1357200" y="0"/>
            <a:ext cx="77868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сновные характеристики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286160" y="785880"/>
            <a:ext cx="45007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. Курс </a:t>
            </a:r>
            <a:r>
              <a:rPr b="1" lang="ru-RU" sz="1800" spc="-1" strike="noStrike">
                <a:solidFill>
                  <a:srgbClr val="222268"/>
                </a:solidFill>
                <a:latin typeface="Calibri"/>
              </a:rPr>
              <a:t>«Основы религиозных культур и светской этики»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включае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6 составляющих (модулей)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425"/>
              </a:spcBef>
              <a:buClr>
                <a:srgbClr val="25406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54061"/>
                </a:solidFill>
                <a:latin typeface="Calibri"/>
              </a:rPr>
              <a:t>основы</a:t>
            </a:r>
            <a:r>
              <a:rPr b="1" lang="ru-RU" sz="17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0000"/>
                </a:solidFill>
                <a:latin typeface="Calibri"/>
              </a:rPr>
              <a:t>православной</a:t>
            </a:r>
            <a:r>
              <a:rPr b="1" lang="ru-RU" sz="1700" spc="-1" strike="noStrike">
                <a:solidFill>
                  <a:srgbClr val="002060"/>
                </a:solidFill>
                <a:latin typeface="Calibri"/>
              </a:rPr>
              <a:t> культуры,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425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Calibri"/>
              </a:rPr>
              <a:t>основы </a:t>
            </a:r>
            <a:r>
              <a:rPr b="1" lang="ru-RU" sz="1700" spc="-1" strike="noStrike">
                <a:solidFill>
                  <a:srgbClr val="ff0000"/>
                </a:solidFill>
                <a:latin typeface="Calibri"/>
              </a:rPr>
              <a:t>исламской</a:t>
            </a:r>
            <a:r>
              <a:rPr b="1" lang="ru-RU" sz="1700" spc="-1" strike="noStrike">
                <a:solidFill>
                  <a:srgbClr val="002060"/>
                </a:solidFill>
                <a:latin typeface="Calibri"/>
              </a:rPr>
              <a:t> культуры,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425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Calibri"/>
              </a:rPr>
              <a:t>основы </a:t>
            </a:r>
            <a:r>
              <a:rPr b="1" lang="ru-RU" sz="1700" spc="-1" strike="noStrike">
                <a:solidFill>
                  <a:srgbClr val="ff0000"/>
                </a:solidFill>
                <a:latin typeface="Calibri"/>
              </a:rPr>
              <a:t>буддийской </a:t>
            </a:r>
            <a:r>
              <a:rPr b="1" lang="ru-RU" sz="1700" spc="-1" strike="noStrike">
                <a:solidFill>
                  <a:srgbClr val="002060"/>
                </a:solidFill>
                <a:latin typeface="Calibri"/>
              </a:rPr>
              <a:t>культуры,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425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Calibri"/>
              </a:rPr>
              <a:t>основы </a:t>
            </a:r>
            <a:r>
              <a:rPr b="1" lang="ru-RU" sz="1700" spc="-1" strike="noStrike">
                <a:solidFill>
                  <a:srgbClr val="ff0000"/>
                </a:solidFill>
                <a:latin typeface="Calibri"/>
              </a:rPr>
              <a:t>иудейской</a:t>
            </a:r>
            <a:r>
              <a:rPr b="1" lang="ru-RU" sz="1700" spc="-1" strike="noStrike">
                <a:solidFill>
                  <a:srgbClr val="002060"/>
                </a:solidFill>
                <a:latin typeface="Calibri"/>
              </a:rPr>
              <a:t> культуры,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425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Calibri"/>
              </a:rPr>
              <a:t>основы </a:t>
            </a:r>
            <a:r>
              <a:rPr b="1" lang="ru-RU" sz="1700" spc="-1" strike="noStrike">
                <a:solidFill>
                  <a:srgbClr val="ff0000"/>
                </a:solidFill>
                <a:latin typeface="Calibri"/>
              </a:rPr>
              <a:t>мировых религиозных культур</a:t>
            </a:r>
            <a:r>
              <a:rPr b="1" lang="ru-RU" sz="1700" spc="-1" strike="noStrike">
                <a:solidFill>
                  <a:srgbClr val="002060"/>
                </a:solidFill>
                <a:latin typeface="Calibri"/>
              </a:rPr>
              <a:t>,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425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Calibri"/>
              </a:rPr>
              <a:t>основы </a:t>
            </a:r>
            <a:r>
              <a:rPr b="1" lang="ru-RU" sz="1700" spc="-1" strike="noStrike">
                <a:solidFill>
                  <a:srgbClr val="ff0000"/>
                </a:solidFill>
                <a:latin typeface="Calibri"/>
              </a:rPr>
              <a:t>светской этик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lang="ru-RU" sz="1700" spc="-1" strike="noStrike">
                <a:solidFill>
                  <a:srgbClr val="002060"/>
                </a:solidFill>
                <a:latin typeface="Calibri"/>
              </a:rPr>
              <a:t>2. Курс объединяют </a:t>
            </a:r>
            <a:r>
              <a:rPr b="1" lang="ru-RU" sz="1700" spc="-1" strike="noStrike">
                <a:solidFill>
                  <a:srgbClr val="ff0000"/>
                </a:solidFill>
                <a:latin typeface="Calibri"/>
              </a:rPr>
              <a:t>единые цели и задачи</a:t>
            </a:r>
            <a:r>
              <a:rPr b="1" lang="ru-RU" sz="1700" spc="-1" strike="noStrike">
                <a:solidFill>
                  <a:srgbClr val="002060"/>
                </a:solidFill>
                <a:latin typeface="Calibri"/>
              </a:rPr>
              <a:t>, что позволяет разработать </a:t>
            </a:r>
            <a:r>
              <a:rPr b="1" lang="ru-RU" sz="1700" spc="-1" strike="noStrike">
                <a:solidFill>
                  <a:srgbClr val="ff0000"/>
                </a:solidFill>
                <a:latin typeface="Calibri"/>
              </a:rPr>
              <a:t>единую методическую основу курса</a:t>
            </a:r>
            <a:r>
              <a:rPr b="1" lang="ru-RU" sz="1700" spc="-1" strike="noStrike">
                <a:solidFill>
                  <a:srgbClr val="002060"/>
                </a:solidFill>
                <a:latin typeface="Calibri"/>
              </a:rPr>
              <a:t>.</a:t>
            </a:r>
            <a:r>
              <a:rPr b="0" lang="ru-RU" sz="17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002060"/>
                </a:solidFill>
                <a:latin typeface="Calibri"/>
              </a:rPr>
              <a:t>Специалистами прорабатываются </a:t>
            </a:r>
            <a:r>
              <a:rPr b="1" lang="ru-RU" sz="1700" spc="-1" strike="noStrike">
                <a:solidFill>
                  <a:srgbClr val="ff0000"/>
                </a:solidFill>
                <a:latin typeface="Calibri"/>
              </a:rPr>
              <a:t>межпредметные связи</a:t>
            </a:r>
            <a:r>
              <a:rPr b="1" lang="ru-RU" sz="1700" spc="-1" strike="noStrike">
                <a:solidFill>
                  <a:srgbClr val="002060"/>
                </a:solidFill>
                <a:latin typeface="Calibri"/>
              </a:rPr>
              <a:t> со всеми иными необходимыми школьными предметам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1571760"/>
            <a:ext cx="4286160" cy="3857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"/>
          <p:cNvSpPr/>
          <p:nvPr/>
        </p:nvSpPr>
        <p:spPr>
          <a:xfrm>
            <a:off x="1234440" y="215640"/>
            <a:ext cx="74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Пособия для учителей и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14" descr="Описание: Картинка 72 из 107"/>
          <p:cNvPicPr/>
          <p:nvPr/>
        </p:nvPicPr>
        <p:blipFill>
          <a:blip r:embed="rId1"/>
          <a:stretch/>
        </p:blipFill>
        <p:spPr>
          <a:xfrm>
            <a:off x="1071720" y="1357200"/>
            <a:ext cx="2286000" cy="302904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2" descr="Описание: Картинка 4 из 107"/>
          <p:cNvPicPr/>
          <p:nvPr/>
        </p:nvPicPr>
        <p:blipFill>
          <a:blip r:embed="rId2"/>
          <a:stretch/>
        </p:blipFill>
        <p:spPr>
          <a:xfrm>
            <a:off x="6429240" y="1357200"/>
            <a:ext cx="2571840" cy="381168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5" descr="Описание: Картинка 7 из 107"/>
          <p:cNvPicPr/>
          <p:nvPr/>
        </p:nvPicPr>
        <p:blipFill>
          <a:blip r:embed="rId3"/>
          <a:stretch/>
        </p:blipFill>
        <p:spPr>
          <a:xfrm>
            <a:off x="3500280" y="1357200"/>
            <a:ext cx="2786400" cy="3811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1"/>
          <p:cNvSpPr/>
          <p:nvPr/>
        </p:nvSpPr>
        <p:spPr>
          <a:xfrm>
            <a:off x="1306800" y="357120"/>
            <a:ext cx="75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Учебные пособия для обучаю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7" descr="Описание: Картинка 13 из 107"/>
          <p:cNvPicPr/>
          <p:nvPr/>
        </p:nvPicPr>
        <p:blipFill>
          <a:blip r:embed="rId1"/>
          <a:stretch/>
        </p:blipFill>
        <p:spPr>
          <a:xfrm>
            <a:off x="5500800" y="1071720"/>
            <a:ext cx="3063600" cy="381132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" descr="Описание: Картинка 3 из 107"/>
          <p:cNvPicPr/>
          <p:nvPr/>
        </p:nvPicPr>
        <p:blipFill>
          <a:blip r:embed="rId2"/>
          <a:stretch/>
        </p:blipFill>
        <p:spPr>
          <a:xfrm>
            <a:off x="1643040" y="2143080"/>
            <a:ext cx="3076560" cy="3811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1"/>
          <p:cNvSpPr/>
          <p:nvPr/>
        </p:nvSpPr>
        <p:spPr>
          <a:xfrm>
            <a:off x="1378080" y="214200"/>
            <a:ext cx="75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Учебные пособия для обучаю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3" descr="Описание: Картинка 5 из 107"/>
          <p:cNvPicPr/>
          <p:nvPr/>
        </p:nvPicPr>
        <p:blipFill>
          <a:blip r:embed="rId1"/>
          <a:stretch/>
        </p:blipFill>
        <p:spPr>
          <a:xfrm>
            <a:off x="1714680" y="2428920"/>
            <a:ext cx="2873160" cy="381168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6" descr="Описание: Картинка 8 из 107"/>
          <p:cNvPicPr/>
          <p:nvPr/>
        </p:nvPicPr>
        <p:blipFill>
          <a:blip r:embed="rId2"/>
          <a:stretch/>
        </p:blipFill>
        <p:spPr>
          <a:xfrm>
            <a:off x="5072040" y="928800"/>
            <a:ext cx="3063960" cy="3811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1"/>
          <p:cNvSpPr/>
          <p:nvPr/>
        </p:nvSpPr>
        <p:spPr>
          <a:xfrm>
            <a:off x="1306800" y="285840"/>
            <a:ext cx="75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Учебные пособия для обучаю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Рисунок 4" descr="Описание: Картинка 6 из 107"/>
          <p:cNvPicPr/>
          <p:nvPr/>
        </p:nvPicPr>
        <p:blipFill>
          <a:blip r:embed="rId1"/>
          <a:stretch/>
        </p:blipFill>
        <p:spPr>
          <a:xfrm>
            <a:off x="1857240" y="2143080"/>
            <a:ext cx="2873520" cy="38116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16" descr="Описание: http://www.prosv.ru/Attachment.aspx?Id=9185"/>
          <p:cNvPicPr/>
          <p:nvPr/>
        </p:nvPicPr>
        <p:blipFill>
          <a:blip r:embed="rId2"/>
          <a:stretch/>
        </p:blipFill>
        <p:spPr>
          <a:xfrm>
            <a:off x="5143680" y="928800"/>
            <a:ext cx="3076560" cy="404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5A51-1DB8-4E5C-A8DE-7E9523D6CC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1143000" y="0"/>
            <a:ext cx="8001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Межведомственный координационный со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71360" y="642600"/>
            <a:ext cx="80722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Состав совета утвержден приказом Минобрнауки России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В него входят представител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1. Религиозных организац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2. Администрации Президента  Российской Федерации, Аппарата Правительства Российской Федерации и аппаратов Полпредст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3. Минобрнауки России, Рособразования, Минрегиона России, Минэкономразвития Росс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4. РАН и РА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5. ФИРО и АПКиППР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и координатор группы разработчиков учебно-методического обеспечения кур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3786120" y="3500280"/>
            <a:ext cx="4430880" cy="2957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3BFF-6561-4120-8989-85FB1497F4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1071720" y="0"/>
            <a:ext cx="80722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одготовка апробации курса ОРКСЭ(с 2012 года - вве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357200" y="642600"/>
            <a:ext cx="73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Минобрнауки России заключает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оглашения о взаимодействии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по вопросам апробации комплексного учебного курса с органами исполнительной власти субъектов Российской Федерации, осуществляющими управление в сфере образовани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ежведомственный координационный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совет по реализации плана мероприятий, утвержденного Распоряжением Правительства РФ, под руководством Министра образования и науки РФ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существляет координацию и контроль реализации плана мероприятий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ринимает решения по основным этапам, документам и проектам в рамках апробаци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D3CE-774F-43E7-BA5B-CCFC65BACE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071720" y="0"/>
            <a:ext cx="8072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Calibri"/>
              </a:rPr>
              <a:t>Особенности подготовки учителе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3"/>
          <p:cNvSpPr/>
          <p:nvPr/>
        </p:nvSpPr>
        <p:spPr>
          <a:xfrm>
            <a:off x="1071720" y="714240"/>
            <a:ext cx="8072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Учитель, который способен </a:t>
            </a:r>
            <a:r>
              <a:rPr b="1" lang="ru-RU" sz="2000" spc="-1" strike="noStrike">
                <a:solidFill>
                  <a:srgbClr val="cc0000"/>
                </a:solidFill>
                <a:latin typeface="Calibri"/>
              </a:rPr>
              <a:t>обсуждать с детьми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содержание учебного курса, а не заучивать, </a:t>
            </a:r>
            <a:r>
              <a:rPr b="1" lang="ru-RU" sz="2000" spc="-1" strike="noStrike">
                <a:solidFill>
                  <a:srgbClr val="cc0000"/>
                </a:solidFill>
                <a:latin typeface="Calibri"/>
              </a:rPr>
              <a:t>без отме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УМК разные, но они отражают </a:t>
            </a:r>
            <a:r>
              <a:rPr b="1" lang="ru-RU" sz="2000" spc="-1" strike="noStrike">
                <a:solidFill>
                  <a:srgbClr val="cc0000"/>
                </a:solidFill>
                <a:latin typeface="Calibri"/>
              </a:rPr>
              <a:t>интересы конфессий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и строятся на общих ценностных основа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Необходимо будет рассматривать и организационные вопросы по </a:t>
            </a:r>
            <a:r>
              <a:rPr b="1" lang="ru-RU" sz="2000" spc="-1" strike="noStrike">
                <a:solidFill>
                  <a:srgbClr val="cc0000"/>
                </a:solidFill>
                <a:latin typeface="Calibri"/>
              </a:rPr>
              <a:t>формированию учебного расписания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, чтобы ни 1 ребенок не был забы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Понадобятся </a:t>
            </a:r>
            <a:r>
              <a:rPr b="1" lang="ru-RU" sz="2000" spc="-1" strike="noStrike">
                <a:solidFill>
                  <a:srgbClr val="cc0000"/>
                </a:solidFill>
                <a:latin typeface="Calibri"/>
              </a:rPr>
              <a:t>консультации для управлен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857680" y="3357720"/>
            <a:ext cx="4286160" cy="3209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7580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Концепция государственной политики в области духовно-нравственного воспит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071600" y="1500120"/>
            <a:ext cx="46148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2 июня 2008 г. в Государственной Думе РФ состоялись парламентские слушания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на которых впервые была представлен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Calibri"/>
              </a:rPr>
              <a:t>Концепция государственной политики в области духовно-нравственного воспитания детей в Российской Федерации и защиты их нравственности</a:t>
            </a: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а также пакет федеральных законов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направленных на улучшение нравственной ситуации в обществе, особенно среди дете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785880" y="1571760"/>
            <a:ext cx="3071880" cy="491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2913-C5DB-476D-9946-F263D4690D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Закон РФ «Об образован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357440" y="928800"/>
            <a:ext cx="442908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. 14. п. 5. Содержание образования в конкретном образовательном учреждении определяется образовательной программой (образовательными программами), </a:t>
            </a: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утверждаемой и реализуемой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этим образовательным учреждением </a:t>
            </a: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самостоятельно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3477960" cy="5286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28440" y="-360"/>
            <a:ext cx="2500200" cy="35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Calibri"/>
              </a:rPr>
              <a:t>Президент РФ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Calibri"/>
              </a:rPr>
              <a:t>Дмитрий Медведе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71720" y="4071960"/>
            <a:ext cx="7603920" cy="20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alibri"/>
              </a:rPr>
              <a:t>Преподавать основы религиозных культур в школах можно только на основе доброво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alibri"/>
              </a:rPr>
              <a:t>"Этот вопрос очень тонкий именно потому, что он затрагивает самые чувствительные, особенно в нашем многоконфессиональном обществе, струны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285920" y="6215040"/>
            <a:ext cx="74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Из материалов интернет-конференции (5 марта 2007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3643200" y="357120"/>
            <a:ext cx="4762440" cy="3571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71400" y="-360"/>
            <a:ext cx="7321320" cy="485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63300"/>
                </a:solidFill>
                <a:latin typeface="Calibri"/>
              </a:rPr>
              <a:t>«При изучении в школе религиозных предметов должен соблюдаться </a:t>
            </a: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принцип уважения и возможность других мировоззрений... </a:t>
            </a:r>
            <a:br>
              <a:rPr sz="2900"/>
            </a:br>
            <a:r>
              <a:rPr b="1" lang="ru-RU" sz="2900" spc="-1" strike="noStrike">
                <a:solidFill>
                  <a:srgbClr val="663300"/>
                </a:solidFill>
                <a:latin typeface="Calibri"/>
              </a:rPr>
              <a:t>Преподаваемые в общеобразовательной школе религиоведческие курсы должны носить </a:t>
            </a: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культурологический</a:t>
            </a:r>
            <a:r>
              <a:rPr b="1" lang="ru-RU" sz="2900" spc="-1" strike="noStrike">
                <a:solidFill>
                  <a:srgbClr val="663300"/>
                </a:solidFill>
                <a:latin typeface="Calibri"/>
              </a:rPr>
              <a:t>, а не миссионерский характер».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779640" y="4821120"/>
            <a:ext cx="4608360" cy="130968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Из рекомендаций Общественной пала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3920" y="428760"/>
            <a:ext cx="7472520" cy="624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В государственной школе религиозная культура должна преподаваться 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исключительно профессиональными педагогами, обладающими дипломами государственного образца.</a:t>
            </a:r>
            <a:br>
              <a:rPr sz="2200"/>
            </a:b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 </a:t>
            </a:r>
            <a:br>
              <a:rPr sz="2200"/>
            </a:b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Представители церкви могут оказывать поддержку в выработке стандартов культурологических дисциплин, посвященных религии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Главным критерием в определении подходов </a:t>
            </a: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к решению вопроса о преподавании основ религиозной культуры в государственной школе может служить 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общественный заказ, т.е. соответствие запросам самих граждан.</a:t>
            </a:r>
            <a:br>
              <a:rPr sz="2200"/>
            </a:br>
            <a:br>
              <a:rPr sz="36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00760" y="5643720"/>
            <a:ext cx="3984480" cy="102528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Из рекомендаций Общественной пала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761508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Цель Концеп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00080" y="571680"/>
            <a:ext cx="768672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3300"/>
                </a:solidFill>
                <a:latin typeface="Calibri"/>
              </a:rPr>
              <a:t>Концепция определяет совокупность основных государственных и общественных мер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Calibri"/>
              </a:rPr>
              <a:t>по созданию условий для формирования духовно-нравственного облика подрастающего поколения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3300"/>
                </a:solidFill>
                <a:latin typeface="Calibri"/>
              </a:rPr>
              <a:t>на основе традиционной ментальности, защиты его психического и нравственного здоровья,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3300"/>
                </a:solidFill>
                <a:latin typeface="Calibri"/>
              </a:rPr>
              <a:t>что будет способствовать обеспечению условий </a:t>
            </a:r>
            <a:r>
              <a:rPr b="1" i="1" lang="ru-RU" sz="1500" spc="-1" strike="noStrike">
                <a:solidFill>
                  <a:srgbClr val="ff0000"/>
                </a:solidFill>
                <a:latin typeface="Calibri"/>
              </a:rPr>
              <a:t>для сохранения и развития Российской государственности и национально-культурной идентичности российского общества на основе отечественных традиций и ценностей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071720" y="3929040"/>
            <a:ext cx="3524040" cy="2643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0" name="Picture 6" descr="http://www.museum.nnov.ru/kremlin/towers/taynitskaya/tain_m.gif"/>
          <p:cNvPicPr/>
          <p:nvPr/>
        </p:nvPicPr>
        <p:blipFill>
          <a:blip r:embed="rId2"/>
          <a:stretch/>
        </p:blipFill>
        <p:spPr>
          <a:xfrm>
            <a:off x="7450200" y="4429080"/>
            <a:ext cx="1550880" cy="2171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Ивановская башня - современный вид"/>
          <p:cNvPicPr/>
          <p:nvPr/>
        </p:nvPicPr>
        <p:blipFill>
          <a:blip r:embed="rId3"/>
          <a:stretch/>
        </p:blipFill>
        <p:spPr>
          <a:xfrm>
            <a:off x="5072040" y="2814480"/>
            <a:ext cx="2071800" cy="3124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Направления реализации государственной политики в сфере духовно-нравственного воспитания детей в Российской Федерац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428720" y="1714320"/>
            <a:ext cx="43290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4. Совершенствование государственной системы образования в целях восстановления и развития ее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воспитательной функ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714240" y="1900080"/>
            <a:ext cx="3754440" cy="4957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3920" y="285840"/>
            <a:ext cx="747252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Сроки и этапы реализации Концеп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00080" y="999720"/>
            <a:ext cx="81439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3300"/>
                </a:solidFill>
                <a:latin typeface="Calibri"/>
              </a:rPr>
              <a:t>Расчетный период реализации Концепции – </a:t>
            </a: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2008–2015 гг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I этап – 2008–2010 гг.</a:t>
            </a:r>
            <a:r>
              <a:rPr b="1" lang="ru-RU" sz="2500" spc="-1" strike="noStrike">
                <a:solidFill>
                  <a:srgbClr val="663300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3300"/>
                </a:solidFill>
                <a:latin typeface="Calibri"/>
              </a:rPr>
              <a:t>формирование соответствующей организационной и правовой базы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3300"/>
                </a:solidFill>
                <a:latin typeface="Calibri"/>
              </a:rPr>
              <a:t>апробация законодательных новелл в нескольких регионах Российской Федерации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3300"/>
                </a:solidFill>
                <a:latin typeface="Calibri"/>
              </a:rPr>
              <a:t>мониторинг правоприменительной практики и корректировка принятого законодательства с учетом результатов мониторинга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3300"/>
                </a:solidFill>
                <a:latin typeface="Calibri"/>
              </a:rPr>
              <a:t>начало осуществления предлагаемых мер Концепции в полном объеме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II этап – 2011–2015 гг.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3300"/>
                </a:solidFill>
                <a:latin typeface="Calibri"/>
              </a:rPr>
              <a:t>полномасштабное осуществление предлагаемых мер с учетом результатов реализации I этап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90000"/>
                </a:solidFill>
                <a:latin typeface="Calibri"/>
              </a:rPr>
              <a:t>Нормативные правовые акты Министерства образования и науки Российской Федерац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9720" y="1428840"/>
            <a:ext cx="771516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Письмо </a:t>
            </a: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от 4 июня 1999 г. № 14-53-281 ин/14-9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О предоставлении религиозным организациям возможности обучать детей религии вне рамок образовательных программ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помещениях государственных и муниципальных образовательных учреждений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Приказ </a:t>
            </a: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от 1 июля 2003 г. № 2833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О предоставлении государственными и муниципальными учреждениями религиозным организациям возможности 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обучать детей религии вне рамок образовательных программ»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зарегистрирован в Минюсте России 5 августа 2003 г. № 4955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428800" y="356760"/>
            <a:ext cx="34290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3300"/>
                </a:solidFill>
                <a:latin typeface="Calibri"/>
              </a:rPr>
              <a:t>В декабре 2007 г. вступили в силу </a:t>
            </a:r>
            <a:r>
              <a:rPr b="1" lang="ru-RU" sz="2700" spc="-1" strike="noStrike">
                <a:solidFill>
                  <a:srgbClr val="c00000"/>
                </a:solidFill>
                <a:latin typeface="Calibri"/>
              </a:rPr>
              <a:t>поправки в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alibri"/>
              </a:rPr>
              <a:t>Закон Российской Федерации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alibri"/>
              </a:rPr>
              <a:t>"Об образовании», </a:t>
            </a:r>
            <a:r>
              <a:rPr b="1" lang="ru-RU" sz="2700" spc="-1" strike="noStrike">
                <a:solidFill>
                  <a:srgbClr val="663300"/>
                </a:solidFill>
                <a:latin typeface="Calibri"/>
              </a:rPr>
              <a:t>разработанные Минобрнауки России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alibri"/>
              </a:rPr>
              <a:t>изменивши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alibri"/>
              </a:rPr>
              <a:t>понятие и структуру государственного образовательного стандарт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28760" y="500040"/>
            <a:ext cx="2438280" cy="389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2643120" y="2500200"/>
            <a:ext cx="2498760" cy="39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428480" y="357120"/>
            <a:ext cx="732924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3300"/>
                </a:solidFill>
                <a:latin typeface="Calibri"/>
              </a:rPr>
              <a:t>Предлагаемая законом </a:t>
            </a:r>
            <a:r>
              <a:rPr b="1" lang="ru-RU" sz="2700" spc="-1" strike="noStrike">
                <a:solidFill>
                  <a:srgbClr val="c00000"/>
                </a:solidFill>
                <a:latin typeface="Calibri"/>
              </a:rPr>
              <a:t>структура федерального государственного образовательного стандарта </a:t>
            </a:r>
            <a:r>
              <a:rPr b="1" lang="ru-RU" sz="2700" spc="-1" strike="noStrike">
                <a:solidFill>
                  <a:srgbClr val="663300"/>
                </a:solidFill>
                <a:latin typeface="Calibri"/>
              </a:rPr>
              <a:t>включает в себя </a:t>
            </a:r>
            <a:r>
              <a:rPr b="1" lang="ru-RU" sz="2700" spc="-1" strike="noStrike">
                <a:solidFill>
                  <a:srgbClr val="ff0000"/>
                </a:solidFill>
                <a:latin typeface="Calibri"/>
              </a:rPr>
              <a:t>единые требования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3300"/>
                </a:solidFill>
                <a:latin typeface="Calibri"/>
              </a:rPr>
              <a:t>к результатам освоения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3300"/>
                </a:solidFill>
                <a:latin typeface="Calibri"/>
              </a:rPr>
              <a:t>к структуре и условиям реализации основных образовательных программ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2214720" y="3071880"/>
            <a:ext cx="5495760" cy="3281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6T04:58:22Z</dcterms:created>
  <dc:creator>Анатолий</dc:creator>
  <dc:description/>
  <dc:language>en-US</dc:language>
  <cp:lastModifiedBy>МБОУ СОШ №18</cp:lastModifiedBy>
  <dcterms:modified xsi:type="dcterms:W3CDTF">2020-01-13T21:19:23Z</dcterms:modified>
  <cp:revision>66</cp:revision>
  <dc:subject/>
  <dc:title>Нормативно-правовое обеспечение реализации государственной политики в области духовно-нравственого воспитания</dc:title>
</cp:coreProperties>
</file>