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2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2655-D6A7-4291-8011-57B31E820C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482D-557E-4531-B8D3-B46583ABD6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872-69B9-4037-80E5-DDDED8321C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униципалитетов в эт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AEB-B5A5-4262-B23D-F80F14E8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A98-CD7C-45BD-9F00-6FF5CF9F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805-6913-4332-ADCF-77EB257F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4E2-D287-49E2-89C4-F35695DA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804E-E04C-429B-8EDD-00BE34A4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8913-C320-4FAA-AB10-F7F2623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43D9-F963-4414-ADA2-A3239BBD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8184-4A50-4F2A-ABB4-367FAC0A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984E-3886-488C-9316-BB4FEEC2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BBC3-F4F4-4188-B31E-35EA654B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C80A-29B1-48B8-BCBD-AB47B64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375-3BD6-424E-951B-86F687B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2B38-BC56-4A0F-9DED-F317D86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E055-54FD-457A-8DF1-410B3D4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2A98-79C7-432F-A5BB-6031CCC8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A0EA-216C-4C5B-A297-3C7BE2EA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BC68-BE5F-4FDE-95DD-CCFA80CE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0C0-C011-4D2B-B22F-B0E0AF9C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07D-8FEC-4FCD-90CB-74617962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DCD-F5D5-4CC0-910C-8B644F66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2BB-F8B1-4B4A-90D9-2095A1C4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CB2-846F-4DDF-9528-0EFC3B98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4EE-FFFC-4F7C-BB95-52ED376C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1D4-24DE-4459-B091-FFA507A7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B8B7-8525-4FBC-8484-28B63BB20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4497-5A72-4229-87FB-3A401CE61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ra.ru/images/news/041/681/041681/200x128_Medvedev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Нижегородский Кремль"/>
          <p:cNvPicPr/>
          <p:nvPr/>
        </p:nvPicPr>
        <p:blipFill>
          <a:blip r:embed="rId1"/>
          <a:stretch/>
        </p:blipFill>
        <p:spPr>
          <a:xfrm>
            <a:off x="1071720" y="3643200"/>
            <a:ext cx="4000320" cy="321480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285840" y="500040"/>
            <a:ext cx="81439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образования, культуры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молодежной политики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елгородской области</a:t>
            </a:r>
            <a:br>
              <a:rPr sz="3200"/>
            </a:b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785960" y="1428840"/>
            <a:ext cx="7358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ВВЕДЕНИЕ УЧЕБНОГО 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ОСНОВЫ РЕЛИГИОЗНЫХ КУЛЬТУР И СВЕТСКОЙ ЭТИКИ В УЧЕБНЫЕ ПЛАНЫ ОБЩЕОБРАЗОВ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УЧРЕЖД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  <a:ea typeface="Times New Roman"/>
              </a:rPr>
              <a:t>КРАСНОДА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99760" y="428400"/>
            <a:ext cx="73580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на из основных задач образования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ф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рмирование духовно-нравственной ли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71800" y="2273400"/>
            <a:ext cx="6143400" cy="421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0FC7-7B0D-4E0C-96DF-C369EB7DF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 речи Президента РФ 21 июля 200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42640" y="4357440"/>
            <a:ext cx="74106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«Напомню норму Конституции Росс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В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атье 14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говорится о том, что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религиозные  объединения отделены  от  государства и равны перед законом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. 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При этом каждому  гарантиру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вобода совести, свобода вероисповедания, включая право исповедовать любую религию или не исповедовать никакую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– это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атья 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Я думаю, что мы должны подчеркнуть и безусловную важность соблюдения этих фундаментальных конституционных положений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на каждом этапе реализации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согласованных планов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86280" cy="352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785840" y="500040"/>
            <a:ext cx="3900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Кроме того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конодательство Российской Федерации следует </a:t>
            </a: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в цел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ормам и принципам международного права, утверждающи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аво учащихся на религиозное образ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(п. 4 ст. 5 Федерального закона "О свободе совести и религиозных объединениях"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381560" cy="614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71360" y="428760"/>
            <a:ext cx="76150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В соответствии с действующим законодательством Минобразования России издало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риказ от 1 июля 2003 г. N 2833 "О предоставлении государственными и муниципальными учреждениями религиозным организациям возможности обучать детей религии вне рамок образовательных программ"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(зарегистрирован в Минюсте России 5 августа 2003 г. N 4955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в соответствии с которым </a:t>
            </a:r>
            <a:r>
              <a:rPr b="1" lang="ru-RU" sz="1800" spc="-1" strike="noStrike" u="sng">
                <a:solidFill>
                  <a:srgbClr val="663300"/>
                </a:solidFill>
                <a:uFillTx/>
                <a:latin typeface="Calibri"/>
              </a:rPr>
              <a:t>администрация образовательных учреждений 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по согласованию с соответствующим органом местного самоуправл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Calibri"/>
              </a:rPr>
              <a:t>может предоставлять религиозной организ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озможность обучать детей религии на территории своего образовательного учреждения только вне рамок образовательной программы, по просьбе родителей или лиц, их заменяющих, с соглас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28760" y="3786120"/>
            <a:ext cx="3585960" cy="271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3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00760" y="4000680"/>
            <a:ext cx="3828960" cy="25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Конституция </a:t>
            </a: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Российской Феде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56800" y="1142640"/>
            <a:ext cx="82868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00"/>
                </a:solidFill>
                <a:latin typeface="Calibri"/>
              </a:rPr>
              <a:t>Ст. 14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оссийская Федерация - </a:t>
            </a:r>
            <a:r>
              <a:rPr b="1" lang="ru-RU" sz="2200" spc="-1" strike="noStrike">
                <a:solidFill>
                  <a:srgbClr val="660033"/>
                </a:solidFill>
                <a:latin typeface="Calibri"/>
              </a:rPr>
              <a:t>светское государство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икакая религия не может устанавливаться в качестве государственной или обязательно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лигиозные объединения отделены от государства и равны перед закон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000160" y="2697120"/>
            <a:ext cx="5214960" cy="391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Конституция </a:t>
            </a: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Российской Феде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00080" y="1213920"/>
            <a:ext cx="77868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. 19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Равенство прав и свобод человека и граждани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независимо о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ла, расы, национальности, языка, происхождения, имущественного и должностного положения, места жительства,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отношения к религии,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убеждений, принадлежности к общественным объединениям, а также других обстоятельст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Запрещаются любые формы ограничения прав граждан по признака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оциальной, расовой, национальной, языковой или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религиозной принадлежност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500200" y="3095640"/>
            <a:ext cx="5048280" cy="3362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Конституция </a:t>
            </a: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Российской Феде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3680" y="1213920"/>
            <a:ext cx="3714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. 28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аждому гарантируется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свобода совести, свобода вероисповедания, включая право исповедовать индивидуально или совместно с другими любую религию или не исповедовать никако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свободно выбирать, иметь и распространять религиозные и иные убеждения и действовать в соответствии с н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. 29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Не допускается пропаганда или агитация, возбуждающа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оциальную, расовую, национальную или </a:t>
            </a: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религиозную ненависть и вражду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Запрещается пропаганда социального, расового, национального, религиозного или языкового превосход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гн.jpg"/>
          <p:cNvPicPr/>
          <p:nvPr/>
        </p:nvPicPr>
        <p:blipFill>
          <a:blip r:embed="rId1"/>
          <a:stretch/>
        </p:blipFill>
        <p:spPr>
          <a:xfrm>
            <a:off x="0" y="1285920"/>
            <a:ext cx="4849920" cy="495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744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Закон Российской Федерации </a:t>
            </a:r>
            <a:br>
              <a:rPr sz="3600"/>
            </a:br>
            <a:r>
              <a:rPr b="0" i="1" lang="ru-RU" sz="3600" spc="-1" strike="noStrike">
                <a:solidFill>
                  <a:srgbClr val="990000"/>
                </a:solidFill>
                <a:latin typeface="Calibri"/>
              </a:rPr>
              <a:t>«Об образовани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1360" y="1499760"/>
            <a:ext cx="74595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Статья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Светский характер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 государственных и муниципальных образовательных учрежден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Статья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Возможность получе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гражданами Российской Федерации 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образования независимо о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ола, расы, национальности, языка, происхождения, места жительства, </a:t>
            </a:r>
            <a:r>
              <a:rPr b="1" lang="ru-RU" sz="2000" spc="-1" strike="noStrike">
                <a:solidFill>
                  <a:srgbClr val="660033"/>
                </a:solidFill>
                <a:latin typeface="Calibri"/>
              </a:rPr>
              <a:t>отношения к религии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убеждений, принадлежности к общественным организациям (объединениям), возраста, состояния здоровья, социального, имущественного ил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Статья 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держание образования должно содействовать взаимопониманию и сотрудничеству между людьми, народами независимо от расовой, национальной, этнической, религиозной и социальной принадлежности, учитывать разнообразие мировоззренческих подходов, способствовать реализации права обучающихся на свободный выбор мнений и убежд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alibri"/>
              </a:rPr>
              <a:t>Федеральный закон </a:t>
            </a:r>
            <a:br>
              <a:rPr sz="2800"/>
            </a:br>
            <a:r>
              <a:rPr b="0" i="1" lang="ru-RU" sz="2800" spc="-1" strike="noStrike">
                <a:solidFill>
                  <a:srgbClr val="990000"/>
                </a:solidFill>
                <a:latin typeface="Calibri"/>
              </a:rPr>
              <a:t>«О свободе совести и о религиозных объединения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42880" y="1071720"/>
            <a:ext cx="438804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атья 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рещается вовлечение малолетних в религиозные объединения, а также обучение малолетних религии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опреки их воле и без согласия их родителей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alibri"/>
              </a:rPr>
              <a:t>Статья 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Каждый имеет право на получение религиозного образован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 своему выбору индивидуально или совместно с друг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оспитание и образование детей осуществляется родителями … с учетом права ребенка на свободу совести и свободу вероиспове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По просьбе родителей, или лиц, их заменяющих, с согласия детей, обучающихся в государственных и муниципальных образовательных учреждениях, администрация … по согласованию с соответствующим органом местного самоуправления предоставляет религиозным организациям возможность обучать детей рели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е рамок образовательной прогр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м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514680" cy="49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00040" y="357120"/>
            <a:ext cx="4643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ру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ези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3000" y="1428480"/>
            <a:ext cx="7572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Прошу обеспечить решение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рганизационн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и финансовых </a:t>
            </a:r>
            <a:br>
              <a:rPr sz="2200"/>
            </a:b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вопросов, касающихся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ведения в 2010 году в 19-ти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субъектах Российской Федерации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, </a:t>
            </a:r>
            <a:br>
              <a:rPr sz="2200"/>
            </a:b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а с 2012 года во всех субъектах Российской Федерации в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бщеобразовательных учреждениях новых предмето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православной культур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исламской культур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буддийской культур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иудейской культур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основы мировых религиозных культур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и основы светской этики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для изучения учащимися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Calibri"/>
              </a:rPr>
              <a:t>по их выбору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 или по выбору их родителей (законных представител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200x128_Medvede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85840"/>
            <a:ext cx="37958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4429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ормативно-правовое обеспечение реализации государственной политики в области духовно-нравственного вос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b78e8fe5aca7.png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8044-6450-450E-A202-482490327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 речи Президента РФ 21 июля 200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71360" y="85680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3300"/>
                </a:solidFill>
                <a:latin typeface="Calibri"/>
              </a:rPr>
              <a:t>«…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все эти вопросы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будут погружены в одну программу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соответственно, это будут </a:t>
            </a: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дни и те же пособия по изучению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Таким образом, мы охватим всех, кто имеет разные представления о том, что необходимо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для обучения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разуясь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 представлениям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амих учеников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х родителе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4214880" y="3408480"/>
            <a:ext cx="4929120" cy="34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823F-1C32-4D9C-A721-36AD2A2AB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 речи Президента РФ 21 июля 2009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00080" y="1428840"/>
            <a:ext cx="76867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«Ученики и 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родители </a:t>
            </a:r>
            <a:br>
              <a:rPr sz="2600"/>
            </a:b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должны будут </a:t>
            </a:r>
            <a:br>
              <a:rPr sz="2600"/>
            </a:br>
            <a:r>
              <a:rPr b="1" lang="ru-RU" sz="2600" spc="-1" strike="noStrike">
                <a:solidFill>
                  <a:srgbClr val="ff3300"/>
                </a:solidFill>
                <a:latin typeface="Calibri"/>
              </a:rPr>
              <a:t>самостоятельно </a:t>
            </a:r>
            <a:br>
              <a:rPr sz="2600"/>
            </a:br>
            <a:r>
              <a:rPr b="1" lang="ru-RU" sz="2600" spc="-1" strike="noStrike">
                <a:solidFill>
                  <a:srgbClr val="ff3300"/>
                </a:solidFill>
                <a:latin typeface="Calibri"/>
              </a:rPr>
              <a:t>выбрать</a:t>
            </a:r>
            <a:r>
              <a:rPr b="1" lang="ru-RU" sz="2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предмет </a:t>
            </a:r>
            <a:br>
              <a:rPr sz="2600"/>
            </a:b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обуч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Выбор учеников и 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родителей, конечно, </a:t>
            </a:r>
            <a:br>
              <a:rPr sz="2600"/>
            </a:b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должен быть </a:t>
            </a:r>
            <a:r>
              <a:rPr b="1" lang="ru-RU" sz="2600" spc="-1" strike="noStrike">
                <a:solidFill>
                  <a:srgbClr val="ff3300"/>
                </a:solidFill>
                <a:latin typeface="Calibri"/>
              </a:rPr>
              <a:t>абсолютно добровольны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– </a:t>
            </a: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это важнейшее дел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alibri"/>
              </a:rPr>
              <a:t>Любое принуждение по этому вопросу не только носит незаконный характер, но и будет абсолютно контрпродуктивным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6160" y="642960"/>
            <a:ext cx="4464000" cy="312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59F0-5D42-465A-82C9-2571DE91B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357200" y="0"/>
            <a:ext cx="7786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новные характеристики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286160" y="785880"/>
            <a:ext cx="4500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. Курс </a:t>
            </a:r>
            <a:r>
              <a:rPr b="1" lang="ru-RU" sz="1800" spc="-1" strike="noStrike">
                <a:solidFill>
                  <a:srgbClr val="222268"/>
                </a:solidFill>
                <a:latin typeface="Calibri"/>
              </a:rPr>
              <a:t>«Основы религиозных культур и светской этики»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ключа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6 составляющих (модулей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25406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54061"/>
                </a:solidFill>
                <a:latin typeface="Calibri"/>
              </a:rPr>
              <a:t>основы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православной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культуры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исламской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культуры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буддийской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культуры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иудейской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культуры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мировых религиозных культур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42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основы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светской этик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2. Курс объединяют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единые цели и задачи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, что позволяет разработать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единую методическую основу курса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0" lang="ru-RU" sz="1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Специалистами прорабатываются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межпредметные связи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</a:rPr>
              <a:t> со всеми иными необходимыми школьными предмета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4286160" cy="385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234440" y="215640"/>
            <a:ext cx="74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Пособия для учителей и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4" descr="Описание: Картинка 72 из 107"/>
          <p:cNvPicPr/>
          <p:nvPr/>
        </p:nvPicPr>
        <p:blipFill>
          <a:blip r:embed="rId1"/>
          <a:stretch/>
        </p:blipFill>
        <p:spPr>
          <a:xfrm>
            <a:off x="1071720" y="1357200"/>
            <a:ext cx="2286000" cy="3029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Описание: Картинка 4 из 107"/>
          <p:cNvPicPr/>
          <p:nvPr/>
        </p:nvPicPr>
        <p:blipFill>
          <a:blip r:embed="rId2"/>
          <a:stretch/>
        </p:blipFill>
        <p:spPr>
          <a:xfrm>
            <a:off x="6429240" y="1357200"/>
            <a:ext cx="2571840" cy="38116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Описание: Картинка 7 из 107"/>
          <p:cNvPicPr/>
          <p:nvPr/>
        </p:nvPicPr>
        <p:blipFill>
          <a:blip r:embed="rId3"/>
          <a:stretch/>
        </p:blipFill>
        <p:spPr>
          <a:xfrm>
            <a:off x="3500280" y="1357200"/>
            <a:ext cx="2786400" cy="381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306800" y="357120"/>
            <a:ext cx="75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Учебные пособия дл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7" descr="Описание: Картинка 13 из 107"/>
          <p:cNvPicPr/>
          <p:nvPr/>
        </p:nvPicPr>
        <p:blipFill>
          <a:blip r:embed="rId1"/>
          <a:stretch/>
        </p:blipFill>
        <p:spPr>
          <a:xfrm>
            <a:off x="5500800" y="1071720"/>
            <a:ext cx="3063600" cy="3811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" descr="Описание: Картинка 3 из 107"/>
          <p:cNvPicPr/>
          <p:nvPr/>
        </p:nvPicPr>
        <p:blipFill>
          <a:blip r:embed="rId2"/>
          <a:stretch/>
        </p:blipFill>
        <p:spPr>
          <a:xfrm>
            <a:off x="1643040" y="2143080"/>
            <a:ext cx="3076560" cy="3811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1378080" y="214200"/>
            <a:ext cx="75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Учебные пособия дл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" descr="Описание: Картинка 5 из 107"/>
          <p:cNvPicPr/>
          <p:nvPr/>
        </p:nvPicPr>
        <p:blipFill>
          <a:blip r:embed="rId1"/>
          <a:stretch/>
        </p:blipFill>
        <p:spPr>
          <a:xfrm>
            <a:off x="1714680" y="2428920"/>
            <a:ext cx="2873160" cy="38116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Описание: Картинка 8 из 107"/>
          <p:cNvPicPr/>
          <p:nvPr/>
        </p:nvPicPr>
        <p:blipFill>
          <a:blip r:embed="rId2"/>
          <a:stretch/>
        </p:blipFill>
        <p:spPr>
          <a:xfrm>
            <a:off x="5072040" y="928800"/>
            <a:ext cx="3063960" cy="381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1306800" y="285840"/>
            <a:ext cx="75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Учебные пособия для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4" descr="Описание: Картинка 6 из 107"/>
          <p:cNvPicPr/>
          <p:nvPr/>
        </p:nvPicPr>
        <p:blipFill>
          <a:blip r:embed="rId1"/>
          <a:stretch/>
        </p:blipFill>
        <p:spPr>
          <a:xfrm>
            <a:off x="1857240" y="2143080"/>
            <a:ext cx="2873520" cy="38116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6" descr="Описание: http://www.prosv.ru/Attachment.aspx?Id=9185"/>
          <p:cNvPicPr/>
          <p:nvPr/>
        </p:nvPicPr>
        <p:blipFill>
          <a:blip r:embed="rId2"/>
          <a:stretch/>
        </p:blipFill>
        <p:spPr>
          <a:xfrm>
            <a:off x="5143680" y="928800"/>
            <a:ext cx="3076560" cy="40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2836-1F59-4211-9C8B-197729757E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143000" y="0"/>
            <a:ext cx="8001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жведомственный координационный со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71360" y="642600"/>
            <a:ext cx="80722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остав совета утвержден приказом Минобрнауки России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 него входят представит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1. Религиозных организац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2. Администрации Президента  Российской Федерации, Аппарата Правительства Российской Федерации и аппаратов Полпред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3. Минобрнауки России, Рособразования, Минрегиона России, Минэкономразвития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4. РАН и РА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5. ФИРО и АПКиПП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 координатор группы разработчиков учебно-методического обеспечения кур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786120" y="3500280"/>
            <a:ext cx="4430880" cy="295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264-0D26-4640-96C9-E8E13024C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071720" y="0"/>
            <a:ext cx="8072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дготовка апробации курса ОРКСЭ(с 2012 года - 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357200" y="642600"/>
            <a:ext cx="73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инобрнауки России заключает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оглашения о взаимодействии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по вопросам апробации комплексного учебного курса с органами исполнительной власти субъектов Российской Федерации, осуществляющими управление в сфере образов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жведомственный координационный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совет по реализации плана мероприятий, утвержденного Распоряжением Правительства РФ, под руководством Министра образования и науки РФ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существляет координацию и контроль реализации плана мероприятий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нимает решения по основным этапам, документам и проектам в рамках апробац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C6DA-E5B0-4609-BE14-7CDD9C5C9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071720" y="0"/>
            <a:ext cx="8072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Особенности подготовки учите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071720" y="714240"/>
            <a:ext cx="8072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читель, который способен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обсуждать с детьми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содержание учебного курса, а не заучивать,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без отм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МК разные, но они отражают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интересы конфессий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и строятся на общих ценностных осно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еобходимо будет рассматривать и организационные вопросы по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формированию учебного расписания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, чтобы ни 1 ребенок не был заб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надобятся 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консультации для управле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857680" y="3357720"/>
            <a:ext cx="4286160" cy="32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758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онцепция государственной политики в области духовно-нравственного воспит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71600" y="1500120"/>
            <a:ext cx="4614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2 июня 2008 г. в Государственной Думе РФ состоялись парламентские слушани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на которых впервые была представлен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Концепция государственной политики в области духовно-нравственного воспитания детей в Российской Федерации и защиты их нравственности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а также пакет федеральных закон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направленных на улучшение нравственной ситуации в обществе, особенно среди де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3071880" cy="49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48B6-F996-4E25-9804-885D94AE9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кон РФ «Об образован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357440" y="928800"/>
            <a:ext cx="442908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. 14. п. 5. Содержание образования в конкретном образовательном учреждении определяется образовательной программой (образовательными программами),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утверждаемой и реализуемой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этим образовательным учреждением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самостоятельно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47796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25002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Президент РФ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Дмитрий Медвед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1720" y="4071960"/>
            <a:ext cx="760392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Преподавать основы религиозных культур в школах можно только на основе доброво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"Этот вопрос очень тонкий именно потому, что он затрагивает самые чувствительные, особенно в нашем многоконфессиональном обществе, струны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285920" y="621504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з материалов интернет-конференции (5 марта 200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643200" y="357120"/>
            <a:ext cx="476244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71400" y="-360"/>
            <a:ext cx="7321320" cy="48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3300"/>
                </a:solidFill>
                <a:latin typeface="Calibri"/>
              </a:rPr>
              <a:t>«При изучении в школе религиозных предметов должен соблюдаться </a:t>
            </a: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принцип уважения и возможность других мировоззрений... </a:t>
            </a:r>
            <a:br>
              <a:rPr sz="2900"/>
            </a:br>
            <a:r>
              <a:rPr b="1" lang="ru-RU" sz="2900" spc="-1" strike="noStrike">
                <a:solidFill>
                  <a:srgbClr val="663300"/>
                </a:solidFill>
                <a:latin typeface="Calibri"/>
              </a:rPr>
              <a:t>Преподаваемые в общеобразовательной школе религиоведческие курсы должны носить </a:t>
            </a: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культурологический</a:t>
            </a:r>
            <a:r>
              <a:rPr b="1" lang="ru-RU" sz="2900" spc="-1" strike="noStrike">
                <a:solidFill>
                  <a:srgbClr val="663300"/>
                </a:solidFill>
                <a:latin typeface="Calibri"/>
              </a:rPr>
              <a:t>, а не миссионерский характер»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79640" y="4821120"/>
            <a:ext cx="4608360" cy="130968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з рекомендаций Общественной пал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3920" y="428760"/>
            <a:ext cx="7472520" cy="62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В государственной школе религиозная культура должна преподаваться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сключительно профессиональными педагогами, обладающими дипломами государственного образца.</a:t>
            </a:r>
            <a:br>
              <a:rPr sz="2200"/>
            </a:b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Представители церкви могут оказывать поддержку в выработке стандартов культурологических дисциплин, посвященных религии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Главным критерием в определении подходов 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к решению вопроса о преподавании основ религиозной культуры в государственной школе может служить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бщественный заказ, т.е. соответствие запросам самих граждан.</a:t>
            </a:r>
            <a:br>
              <a:rPr sz="2200"/>
            </a:b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00760" y="5643720"/>
            <a:ext cx="3984480" cy="102528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з рекомендаций Общественной пал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76150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ь Концеп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00080" y="571680"/>
            <a:ext cx="7686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3300"/>
                </a:solidFill>
                <a:latin typeface="Calibri"/>
              </a:rPr>
              <a:t>Концепция определяет совокупность основных государственных и общественных мер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</a:rPr>
              <a:t>по созданию условий для формирования духовно-нравственного облика подрастающего поколения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3300"/>
                </a:solidFill>
                <a:latin typeface="Calibri"/>
              </a:rPr>
              <a:t>на основе традиционной ментальности, защиты его психического и нравственного здоровья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3300"/>
                </a:solidFill>
                <a:latin typeface="Calibri"/>
              </a:rPr>
              <a:t>что будет способствовать обеспечению условий </a:t>
            </a:r>
            <a:r>
              <a:rPr b="1" i="1" lang="ru-RU" sz="1500" spc="-1" strike="noStrike">
                <a:solidFill>
                  <a:srgbClr val="ff0000"/>
                </a:solidFill>
                <a:latin typeface="Calibri"/>
              </a:rPr>
              <a:t>для сохранения и развития Российской государственности и национально-культурной идентичности российского общества на основе отечественных традиций и ценностей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71720" y="3929040"/>
            <a:ext cx="352404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6" descr="http://www.museum.nnov.ru/kremlin/towers/taynitskaya/tain_m.gif"/>
          <p:cNvPicPr/>
          <p:nvPr/>
        </p:nvPicPr>
        <p:blipFill>
          <a:blip r:embed="rId2"/>
          <a:stretch/>
        </p:blipFill>
        <p:spPr>
          <a:xfrm>
            <a:off x="7450200" y="4429080"/>
            <a:ext cx="1550880" cy="21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Ивановская башня - современный вид"/>
          <p:cNvPicPr/>
          <p:nvPr/>
        </p:nvPicPr>
        <p:blipFill>
          <a:blip r:embed="rId3"/>
          <a:stretch/>
        </p:blipFill>
        <p:spPr>
          <a:xfrm>
            <a:off x="5072040" y="2814480"/>
            <a:ext cx="2071800" cy="312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правления реализации государственной политики в сфере духовно-нравственного воспитания детей в Российской Федер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428720" y="1714320"/>
            <a:ext cx="4329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4. Совершенствование государственной системы образования в целях восстановления и развития ее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оспитательной фун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14240" y="1900080"/>
            <a:ext cx="3754440" cy="495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3920" y="285840"/>
            <a:ext cx="74725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роки и этапы реализации Концеп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00080" y="999720"/>
            <a:ext cx="8143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Расчетный период реализации Концепции –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2008–2015 г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I этап – 2008–2010 гг.</a:t>
            </a: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формирование соответствующей организационной и правовой базы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апробация законодательных новелл в нескольких регионах Российской Федерации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мониторинг правоприменительной практики и корректировка принятого законодательства с учетом результатов мониторинга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начало осуществления предлагаемых мер Концепции в полном объем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II этап – 2011–2015 гг.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Calibri"/>
              </a:rPr>
              <a:t>полномасштабное осуществление предлагаемых мер с учетом результатов реализации I этап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00"/>
                </a:solidFill>
                <a:latin typeface="Calibri"/>
              </a:rPr>
              <a:t>Нормативные правовые акты Министерства образования и науки Российской Федер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9720" y="1428840"/>
            <a:ext cx="77151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Письмо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от 4 июня 1999 г. № 14-53-281 ин/14-9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О предоставлении религиозным организациям возможности обучать детей религии вне рамок образовательных програм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омещениях государственных и муниципальных образов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Приказ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от 1 июля 2003 г. № 2833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О предоставлении государственными и муниципальными учреждениями религиозным организациям возможности </a:t>
            </a: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обучать детей религии вне рамок образовательных программ»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зарегистрирован в Минюсте России 5 августа 2003 г. № 495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28800" y="356760"/>
            <a:ext cx="34290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В декабре 2007 г. вступили в силу </a:t>
            </a: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поправки в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Закон Российской Федераци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"Об образовании», </a:t>
            </a: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разработанные Минобрнауки Росси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изменивши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понятие и структуру государственного образовательного стандар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2438280" cy="389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2643120" y="2500200"/>
            <a:ext cx="2498760" cy="39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428480" y="357120"/>
            <a:ext cx="73292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Предлагаемая законом </a:t>
            </a:r>
            <a:r>
              <a:rPr b="1" lang="ru-RU" sz="2700" spc="-1" strike="noStrike">
                <a:solidFill>
                  <a:srgbClr val="c00000"/>
                </a:solidFill>
                <a:latin typeface="Calibri"/>
              </a:rPr>
              <a:t>структура федерального государственного образовательного стандарта </a:t>
            </a: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включает в себя </a:t>
            </a: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единые требования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к результатам освоения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3300"/>
                </a:solidFill>
                <a:latin typeface="Calibri"/>
              </a:rPr>
              <a:t>к структуре и условиям реализации основных образовательных програм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214720" y="3071880"/>
            <a:ext cx="5495760" cy="328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04:58:22Z</dcterms:created>
  <dc:creator>Анатолий</dc:creator>
  <dc:description/>
  <dc:language>en-US</dc:language>
  <cp:lastModifiedBy>МБОУ СОШ №18</cp:lastModifiedBy>
  <dcterms:modified xsi:type="dcterms:W3CDTF">2020-01-13T21:19:23Z</dcterms:modified>
  <cp:revision>66</cp:revision>
  <dc:subject/>
  <dc:title>Нормативно-правовое обеспечение реализации государственной политики в области духовно-нравственого воспитания</dc:title>
</cp:coreProperties>
</file>