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C89A-049B-4CED-B166-4E3C271B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BD28-7899-4A12-B76A-C64F4D88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F312-EF57-431D-88A8-F8AC9BF1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A9CD-B18C-421E-B036-AB401BC1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A260-4640-419E-AC38-C3FDDBC9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904A-FE3C-4AA1-8769-FC758919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45AF-A1EB-44F5-A790-FF3E9E71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C37C-4603-49FF-93A9-8BF3C8E6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6672-92CB-4B30-9907-0E8DAE66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562B-BD24-4CE0-A584-D4B84585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8749-6A39-42A0-A9F3-A6B28B9B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CAA-FA70-4C5F-A443-BA76B8EE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e0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F80C-9A23-414F-AEE5-3B93B40FA7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мплексный учебный курс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Основы религиозных культур и светской этик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85840" y="214200"/>
          <a:ext cx="8501040" cy="6340680"/>
        </p:xfrm>
        <a:graphic>
          <a:graphicData uri="http://schemas.openxmlformats.org/drawingml/2006/table">
            <a:tbl>
              <a:tblPr/>
              <a:tblGrid>
                <a:gridCol w="1417680"/>
                <a:gridCol w="1415880"/>
                <a:gridCol w="1417680"/>
                <a:gridCol w="1415880"/>
                <a:gridCol w="1417680"/>
                <a:gridCol w="1416240"/>
              </a:tblGrid>
              <a:tr h="25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3.  Священное Писа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3. Пророк Мухаммад –  образец человека и учитель нравственности. Жизнеописание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3. Будда и его У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3. Тора – главная книга иудаизма. Сущность Торы. «Золотое правило Гилеля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3. Культура и рели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3. Род и семья – исток нравственных отношений в истории человече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4.  Священное Писание и Священное Преда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4. Пророк Мухаммад – проповедническая мисс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4. Будда и его 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4. Письменная и Устная Тора. Классические тексты иудаиз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4. Возникновение религий. Древнейшие ве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4.  Ценность родства и семейные ц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5. Во что верят православные христиа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красные качества Пророка Мухаммад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5. Буддийский священный кан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5. Патриархи еврейского народ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5. Возникновение религий. Религии мира и их основ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5. Семейные праздники как одна из форм исторической памя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14200" y="142920"/>
          <a:ext cx="8786880" cy="6035760"/>
        </p:xfrm>
        <a:graphic>
          <a:graphicData uri="http://schemas.openxmlformats.org/drawingml/2006/table">
            <a:tbl>
              <a:tblPr/>
              <a:tblGrid>
                <a:gridCol w="1465200"/>
                <a:gridCol w="1463760"/>
                <a:gridCol w="1465200"/>
                <a:gridCol w="1463760"/>
                <a:gridCol w="1465200"/>
                <a:gridCol w="146376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6. Что говорит о Боге  и мире православная  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ященный Коран и Сунна как источники нравствен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6. Буддийский священный кан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6. Евреи в Егип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6. Священные книги религий мира: Веды,  Авеста. Трипитак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6. Образцы нравственности в культурах разных на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7. Что говорит о человеке православная 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7.Общие принципы ислама и исламской эти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7.  Буддийская картина ми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7. Исход из Египт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7. Священные книги религий мира: Тора, Библия, Кора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7. Нравств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ый образец богатыр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8. Христиан-ское учение о спасени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олпы ислама и исламской эти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8.  Буддийская картина ми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8. Получение Торы на горе Син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8. Хранители предания в религиях ми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8. Дворянский кодекс че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14200" y="285840"/>
          <a:ext cx="8715600" cy="576108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452600"/>
                <a:gridCol w="1452600"/>
                <a:gridCol w="1452600"/>
                <a:gridCol w="145260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9. Добро и зло в православной тради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ие мусульманами своих обязанно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9. Добро и зл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9. Пророки и праведники в иудейской культур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9. Человек в религиозных традициях ми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9. Джентльмен и лед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0. Христианская этика. Заповеди блажен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язанности мусульма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0. Ненасилие и добр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0. Пророки и праведники в иудейской культур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0. Священные соору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0. Государство и мораль граждан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1. Христианская этика. Золотое правило нравственности. Любовь к ближнем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язанности мусульма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1. Любовь к человеку и ценность жи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1.  Храм в жизни иуде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1.  Священные соору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1. Образцы нравственности в культуре Отече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42920" y="571680"/>
          <a:ext cx="8786880" cy="5662440"/>
        </p:xfrm>
        <a:graphic>
          <a:graphicData uri="http://schemas.openxmlformats.org/drawingml/2006/table">
            <a:tbl>
              <a:tblPr/>
              <a:tblGrid>
                <a:gridCol w="1361880"/>
                <a:gridCol w="1362240"/>
                <a:gridCol w="1362240"/>
                <a:gridCol w="1360440"/>
                <a:gridCol w="1361880"/>
                <a:gridCol w="1978200"/>
              </a:tblGrid>
              <a:tr h="185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 12. Христианская этика. Добродетели и страсти. Отношение к труд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язанности мусульма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2. Милосердие и сострад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2. Назначение синагоги и её устро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2. Искусство в религиозной культу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2. Мораль защитника Отеч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3. Христианская этика. Долг и ответствен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лосердие и сострадани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3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язанности мусульма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3.  Отношение к приро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3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бота (Шабат) в иудейской традиции. Субботний риту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3. Искусство в религиозной культу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3. Порядочность. Интеллигент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4.Спаситель. Жертвенная любов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чего построена и как устроена мече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4. Буддийские святые. Буд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4. Молитвы и благословения в иудаизм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4. Добро и зло. Возникнове-ние зла в мире. Понятие греха, раскаяния и воздаяния. Рай и а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4. Трудовая мораль. Нравственные традиции предприниматель-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57120" y="357120"/>
          <a:ext cx="8643960" cy="6308640"/>
        </p:xfrm>
        <a:graphic>
          <a:graphicData uri="http://schemas.openxmlformats.org/drawingml/2006/table">
            <a:tbl>
              <a:tblPr/>
              <a:tblGrid>
                <a:gridCol w="1441440"/>
                <a:gridCol w="1440000"/>
                <a:gridCol w="1441440"/>
                <a:gridCol w="1439640"/>
                <a:gridCol w="1441800"/>
                <a:gridCol w="1439640"/>
              </a:tblGrid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5. Спаситель. Победа над смерт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сульманское летоисчисление и календар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5. Семья в буддийской культуре и ее цен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5. Добро и з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5. Добро и зло. Возникновение зла в мире. Понятие греха, раскаяния и воздаяния. Рай и а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7. Что значит «быть нравственным» в наше врем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6. Творческие работы учащих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6. Творческие работы учащих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6. Творческие работы учащих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6. Творческие работы учащих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6. Творческие работы учащих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6. Творческие работы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7. Подведение итог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7. Подведение итог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7. Подведение итог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7. Подведение итог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7. Подведение итог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7. Подведение итог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бор обучающихся и их родителей модуля учебного курса «Основы религиозных культур и светской этики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4200" y="1000080"/>
          <a:ext cx="8786880" cy="5857920"/>
        </p:xfrm>
        <a:graphic>
          <a:graphicData uri="http://schemas.openxmlformats.org/drawingml/2006/table">
            <a:tbl>
              <a:tblPr/>
              <a:tblGrid>
                <a:gridCol w="2571840"/>
                <a:gridCol w="4500720"/>
                <a:gridCol w="1714320"/>
              </a:tblGrid>
              <a:tr h="22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оду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уемое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количеств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ающихся  4-х классов в 2011-2012 учебном году, для изучения курса (по итогам выбора родителей (законных представителей) обучающихся модуля курса ОРКС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учителей, преподающих кур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православной куль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исламской куль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буддийской куль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иудейской куль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мировых религиозных культ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светской э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(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количество 4-х классов в 2011-2012 учебном году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85480"/>
            <a:ext cx="777240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бный курс ОРКСЭ включает в себя модул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ы православной культур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ы исламской культур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ы буддийской культур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ы иудейской культур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ы мировых религиозных культур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ы светской э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з модулей изучается обучающимся с его согласия и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выбору его родителе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законных представителей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13840"/>
            <a:ext cx="77724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иректору МБОУ «________ №_______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.И.О. директора шко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дителя ______________________________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.И.О. род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живающего по адресу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сто фактического прожи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мер домашнего телефона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мер мобильного телефона______________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явление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Я, ________________________________, выбираю для моей (моего) дочери (сына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.И.О. род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, обучающейся (обучающего)  4 «__» класс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.И. ребенка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дин из модулей комплексного учебного курса «Основы религиозных культур и светской этики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ы православной куль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ы исламской куль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ы буддийской куль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ы иудейской куль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ы мировых религиозных культу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ы светской э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нужное отметит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 поручением Президента Российской Федерации от 2 августа 2009 года     № Пр-2009 в части введения с 2012 года во всех субъектах Российской Федерации в общеобразовательных учреждениях нового предмета «Основы религиозных культур и светской этики,  Распоряжением Правительства Российской Федерации от 29 октября 2009 года № 1578-р,  письмом Министерства образования и науки РФ от 24 октября 2011 года №МД-1427/03 «Об обеспечении преподавания комплексного учебного курса ОРКСЭ»: ознакомлен (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                                                                                              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дпись родителя                                                                                                                          да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500040"/>
            <a:ext cx="777240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бный курс ОРКСЭ является единой комплексной учебно-воспитательной системой. Все его модули согласуются между собой по педагогическим целям, задачам, требованиям к результатам освоения учебного содержания, достижение которых обучающимися должен обеспечить образовательный процесс в границах учебного курса, а также в системе содержательных, понятийных, ценностно-смысловых связей учебного предмета с другими гуманитарными предметами начальной и основной школ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428760"/>
            <a:ext cx="77724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бный курс ОРКСЭ является культурологическим и направлен на развитие у школьников  10-11 лет представлений о нравственных идеалах и ценностях, составляющих основу религиозных и светских традиций многонациональной культуры России, на понимание их значения в жизни современного общества, а также своей сопричастности к ни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5072040" y="4214880"/>
            <a:ext cx="35719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500040"/>
            <a:ext cx="777240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ель учебного курса ОРКСЭ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формирование у младшего подростка мотиваций к осознанному нравственному поведению, основанному на знании и уважении культурных и религиозных традиций многонационального народа России, а также к диалогу с представителями других культур и мировоззрен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8" descr="C:\Documents and Settings\111\Рабочий стол\Храмы\Александ Невский.jpg"/>
          <p:cNvPicPr/>
          <p:nvPr/>
        </p:nvPicPr>
        <p:blipFill>
          <a:blip r:embed="rId1"/>
          <a:stretch/>
        </p:blipFill>
        <p:spPr>
          <a:xfrm>
            <a:off x="428760" y="214200"/>
            <a:ext cx="242892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6215040" y="4786200"/>
            <a:ext cx="2143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428760"/>
            <a:ext cx="77724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адачи учебного курса ОРКСЭ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комство обучающихся с основами православной, мусульманской, буддийской, иудейской культур, основами мировых религиозных культур и светской этик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 представлений младшего подростка о значении нравственных норм и ценностей для достойной жизни личности, семьи, общест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общение знаний, понятий и представлений о духовной культуре и морали, полученных обучающимися в начальной школе, и формирование у них ценностно-смысловых мировоззренческих основ, обеспечивающих целостное восприятие отечественной истории и культуры при изучении гуманитарных предметов на ступени основной школ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 способностей младших школьников к общению в полиэтнической и многоконфессиональной среде на основе взаимного уважения и диалога во имя общественного мира и соглас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есто комплексного учебного курса</a:t>
            </a:r>
            <a:br>
              <a:rPr sz="1800"/>
            </a:b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Основы религиозных культур и светской этики» </a:t>
            </a:r>
            <a:br>
              <a:rPr sz="1800"/>
            </a:b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 программе обучения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500120"/>
            <a:ext cx="77724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урс, раскрывающий основы религиозных культур и светской этики, предлагается изучать на переходной стадии от начальной к основной ступени общеобразовательной школы.  И по месту в учебном плане, и по содержанию он служит важным связующим звеном между двумя этапами гуманитарного образования и воспитания школьников. С одной стороны, учебный курс ОРКСЭ дополняет обществоведческие аспекты предмета «Окружающий мир», с которым знакомятся учащиеся основной школы. С другой стороны, этот курс предваряет начинающееся в 5 классе изучение предмета «История». Таким образом, ознакомление с нравственными идеалами и ценностями религиозных и светских духовных традиций России происходит в контексте, отражающем глубинную связь прошлого и настоящег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рная программа комплексного учебного курс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Основы религиозных культур и светской этики» (34 час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85840" y="1500120"/>
          <a:ext cx="8715240" cy="294336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452240"/>
                <a:gridCol w="1452600"/>
                <a:gridCol w="1548000"/>
                <a:gridCol w="1357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православной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исламской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буддийской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иудейской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мировых религиозных культу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светской э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ок 1. Введение. Духовные ценности и нравственные идеалы в жизни человека и общества (1 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. Россия  - наша Родин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3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ок 2. Основы религиозных культур и светской этики. Часть 1. (16 час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85840" y="4429080"/>
          <a:ext cx="8715240" cy="228600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452240"/>
                <a:gridCol w="1452600"/>
                <a:gridCol w="1452600"/>
                <a:gridCol w="145260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 2.Введение в православную духовную традицию. Особенности восточного христианства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 и рели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2. Введение в исламскую духовную традицию. Культура и рели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2. Ведение в буддийскую духовную традицию. Культура и рели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2. Введение в иудейскую духовную традицию. Культура и рели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2. Культура и рели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2. Культура и мораль. Этика и её значение в жизни челове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авучи</cp:lastModifiedBy>
  <dcterms:modified xsi:type="dcterms:W3CDTF">2012-08-29T03:39:57Z</dcterms:modified>
  <cp:revision>15</cp:revision>
  <dc:subject/>
  <dc:title>PowerPoint Presentation</dc:title>
</cp:coreProperties>
</file>