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C67-178C-4F7C-89B4-4DDC3DF5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D0B-9F63-4BED-A932-BA821C4F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E4A-E6E8-4C86-8592-C412BB94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7D4-C26E-4EBF-B69C-D28DFA56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F9F-A5CE-4A19-A17C-7344541E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6E8-78E5-4361-95C8-D097CD4C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E20-9C20-4454-9CAF-F4C55096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AF6-991B-47D1-BAC4-09BB9EBA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98F-09EB-43D9-BBE6-76B522D0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EEE-5BD2-4B1B-9C8A-5EEA921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5B1-1A57-4BAE-9D4C-A394B92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34C-F3B5-44FB-8940-3456C213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e0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2E6-3858-4E0C-BB36-C571278155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плексный учебный курс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Основы религиозных культур и светской эти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85840" y="214200"/>
          <a:ext cx="8501040" cy="6340680"/>
        </p:xfrm>
        <a:graphic>
          <a:graphicData uri="http://schemas.openxmlformats.org/drawingml/2006/table">
            <a:tbl>
              <a:tblPr/>
              <a:tblGrid>
                <a:gridCol w="1417680"/>
                <a:gridCol w="1415880"/>
                <a:gridCol w="1417680"/>
                <a:gridCol w="1415880"/>
                <a:gridCol w="1417680"/>
                <a:gridCol w="1416240"/>
              </a:tblGrid>
              <a:tr h="25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 Священное Пис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Пророк Мухаммад –  образец человека и учитель нравственности. Жизнеописани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Будда и его 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Тора – главная книга иудаизма. Сущность Торы. «Золотое правило Гилеля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Культура и рели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3. Род и семья – исток нравственных отношений в истории человече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 Священное Писание и Священное Пред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Пророк Мухаммад – проповедническая мис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Будда и его 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Письменная и Устная Тора. Классические тексты иуда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Возникновение религий. Древнейшие ве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4.  Ценность родства и семейные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Во что верят православные христи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красные качества Пророка Мухамма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Буддийский священный кан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Патриархи еврейского наро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Возникновение религий. Религии мира и их основ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5. Семейные праздники как одна из форм исторической памя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14200" y="142920"/>
          <a:ext cx="8786880" cy="6035760"/>
        </p:xfrm>
        <a:graphic>
          <a:graphicData uri="http://schemas.openxmlformats.org/drawingml/2006/table">
            <a:tbl>
              <a:tblPr/>
              <a:tblGrid>
                <a:gridCol w="1465200"/>
                <a:gridCol w="1463760"/>
                <a:gridCol w="1465200"/>
                <a:gridCol w="1463760"/>
                <a:gridCol w="1465200"/>
                <a:gridCol w="14637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Что говорит о Боге  и мире православная 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ященный Коран и Сунна как источники нрав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Буддийский священный кан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Евреи в Егип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Священные книги религий мира: Веды,  Авеста. Трипитак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6. Образцы нравственности в культурах разных на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Что говорит о человеке православ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Общие принципы ислама и исламской э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 Буддийская картина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Исход из Егип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Священные книги религий мира: Тора, Библия, Кор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7. Нравств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ый образец богаты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Христиан-ское учение о спасен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лпы ислама и исламской э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 Буддийская картина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Получение Торы на горе Син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Хранители предания в религиях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8. Дворянский кодекс че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14200" y="285840"/>
          <a:ext cx="8715600" cy="576108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Добро и зло в православной тради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ие мусульманами своих обязан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Добро и з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Пророки и праведники в иудейской культур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Человек в религиозных традициях ми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9. Джентльмен и ле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Христианская этика. Заповеди блажен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нности мусульм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Ненасилие и добр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Пророки и праведники в иудейской культур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Священные соору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0. Государство и мораль гражда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Христианская этика. Золотое правило нравственности. Любовь к ближн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нности мусульм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Любовь к человеку и ценность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 Храм в жизни иуд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 Священные соору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1. Образцы нравственности в культуре Оте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2920" y="571680"/>
          <a:ext cx="8786880" cy="5662440"/>
        </p:xfrm>
        <a:graphic>
          <a:graphicData uri="http://schemas.openxmlformats.org/drawingml/2006/table">
            <a:tbl>
              <a:tblPr/>
              <a:tblGrid>
                <a:gridCol w="1361880"/>
                <a:gridCol w="1362240"/>
                <a:gridCol w="1362240"/>
                <a:gridCol w="1360440"/>
                <a:gridCol w="1361880"/>
                <a:gridCol w="1978200"/>
              </a:tblGrid>
              <a:tr h="185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12. Христианская этика. Добродетели и страсти. Отношение к тру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нности мусульм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. Милосердие и состр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. Назначение синагоги и её устро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. Искусство в религиозной 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2. Мораль защитника Оте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. Христианская этика. Долг и ответствен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осердие и сострада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нности мусульм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.  Отношение к прир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бота (Шабат) в иудейской традиции. Субботний риту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. Искусство в религиозной 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3. Порядочность. Интеллиг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Спаситель. Жертвенная любо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чего построена и как устроена мече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 Буддийские святые. Буд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 Молитвы и благословения в иудаиз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 Добро и зло. Возникнове-ние зла в мире. Понятие греха, раскаяния и воздаяния. Рай и 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4. Трудовая мораль. Нравственные традиции предприниматель-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57120" y="357120"/>
          <a:ext cx="8643960" cy="6308640"/>
        </p:xfrm>
        <a:graphic>
          <a:graphicData uri="http://schemas.openxmlformats.org/drawingml/2006/table">
            <a:tbl>
              <a:tblPr/>
              <a:tblGrid>
                <a:gridCol w="1441440"/>
                <a:gridCol w="1440000"/>
                <a:gridCol w="1441440"/>
                <a:gridCol w="1439640"/>
                <a:gridCol w="144180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. Спаситель. Победа над смер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сульманское летоисчисление и календа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. Семья в буддийской культуре и ее ц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. Добро и з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5. Добро и зло. Возникновение зла в мире. Понятие греха, раскаяния и воздаяния. Рай и 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Что значит «быть нравственным» в наше врем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6. Творческие работы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7.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ор обучающихся и их родителей модуля учебного курса «Основы религиозных культур и светской этики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4200" y="1000080"/>
          <a:ext cx="8786880" cy="5857920"/>
        </p:xfrm>
        <a:graphic>
          <a:graphicData uri="http://schemas.openxmlformats.org/drawingml/2006/table">
            <a:tbl>
              <a:tblPr/>
              <a:tblGrid>
                <a:gridCol w="2571840"/>
                <a:gridCol w="4500720"/>
                <a:gridCol w="1714320"/>
              </a:tblGrid>
              <a:tr h="22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оду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о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количе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хся  4-х классов в 2011-2012 учебном году, для изучения курса (по итогам выбора родителей (законных представителей) обучающихся модуля курса ОРКС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учителей, преподающих 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правосла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исламск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буддийск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иудейск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мировых религиозных 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светской э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(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количество 4-х классов в 2011-2012 учебном году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85480"/>
            <a:ext cx="77724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курс ОРКСЭ включает в себя моду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православной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исламской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буддийской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иудейской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мировых религиозных культур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светской э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з модулей изучается обучающимся с его согласия 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выбору его родител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законных представителе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13840"/>
            <a:ext cx="77724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ректору МБОУ «________ №_______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И.О. директора 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я ______________________________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И.О. род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живающего по адресу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сто фактического про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мер домашнего телефона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мер мобильного телефона______________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явление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, ________________________________, выбираю для моей (моего) дочери (сына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И.О. род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, обучающейся (обучающего)  4 «__» клас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И. ребенка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дин из модулей комплексного учебного курса «Основы религиозных культур и светской этики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православной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исламской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буддийской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иудейской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мировых религиозных куль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светской э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нужное отмет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поручением Президента Российской Федерации от 2 августа 2009 года     № Пр-2009 в части введения с 2012 года во всех субъектах Российской Федерации в общеобразовательных учреждениях нового предмета «Основы религиозных культур и светской этики,  Распоряжением Правительства Российской Федерации от 29 октября 2009 года № 1578-р,  письмом Министерства образования и науки РФ от 24 октября 2011 года №МД-1427/03 «Об обеспечении преподавания комплексного учебного курса ОРКСЭ»: ознакомлен (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                                                                                              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пись родителя                                                                                                                          д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500040"/>
            <a:ext cx="77724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курс ОРКСЭ является единой комплексной учебно-воспитательной системой. Все его модули согласуются между собой по педагогическим целям, задачам, требованиям к результатам освоения учебного содержания, достижение которых обучающимися должен обеспечить образовательный процесс в границах учебного курса, а также в системе содержательных, понятийных, ценностно-смысловых связей учебного предмета с другими гуманитарными предметами начальной и основной школ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4287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курс ОРКСЭ является культурологическим и направлен на развитие у школьников  10-11 лет представлений о нравственных идеалах и ценностях, составляющих основу религиозных и светских традиций многонациональной культуры России, на понимание их значения в жизни современного общества, а также своей сопричастности к н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072040" y="421488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500040"/>
            <a:ext cx="77724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 учебного курса ОРКСЭ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C:\Documents and Settings\111\Рабочий стол\Храмы\Александ Невский.jpg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215040" y="4786200"/>
            <a:ext cx="2143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4287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и учебного курса ОРКС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комплексного учебного курса</a:t>
            </a: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сновы религиозных культур и светской этики» </a:t>
            </a: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 программе обу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рс, раскрывающий основы религиозных культур и светской этики, предлагается изучать на переходной стадии от начальной к основной ступени общеобразовательной школы.  И по месту в учебном плане, и по содержанию он служит важным связующим звеном между двумя этапами гуманитарного образования и воспитания школьников. С одной стороны, учебный курс ОРКСЭ дополняет обществоведческие аспекты предмета «Окружающий мир», с которым знакомятся учащиеся основной школы. С другой стороны, этот курс предваряет начинающееся в 5 классе изучение предмета «История». Таким образом, ознакомление с нравственными идеалами и ценностями религиозных и светских духовных традиций России происходит в контексте, отражающем глубинную связь прошлого и настояще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ая программа комплексного учебного кур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сновы религиозных культур и светской этики» (34 ча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85840" y="1500120"/>
          <a:ext cx="8715240" cy="294336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240"/>
                <a:gridCol w="1452600"/>
                <a:gridCol w="1548000"/>
                <a:gridCol w="1357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правосла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исламск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буддийск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иудейск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мировых религиозных культ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светской э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ок 1. Введение. Духовные ценности и нравственные идеалы в жизни человека и общества (1 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1. Россия  - наша Роди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ок 2. Основы религиозных культур и светской этики. Часть 1. (16 час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85840" y="4429080"/>
          <a:ext cx="8715240" cy="228600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240"/>
                <a:gridCol w="1452600"/>
                <a:gridCol w="1452600"/>
                <a:gridCol w="14526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 2.Введение в православную духовную традицию. Особенности восточного христианства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 и рели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Введение в исламскую духовную традицию. Культура и рели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Ведение в буддийскую духовную традицию. Культура и рели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Введение в иудейскую духовную традицию. Культура и рели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Культура и рели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2. Культура и мораль. Этика и её значение в жизни челове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вучи</cp:lastModifiedBy>
  <dcterms:modified xsi:type="dcterms:W3CDTF">2012-08-29T03:39:57Z</dcterms:modified>
  <cp:revision>15</cp:revision>
  <dc:subject/>
  <dc:title>PowerPoint Presentation</dc:title>
</cp:coreProperties>
</file>